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30.png" ContentType="image/png"/>
  <Override PartName="/ppt/media/image28.png" ContentType="image/png"/>
  <Override PartName="/ppt/media/image36.wmf" ContentType="image/x-wmf"/>
  <Override PartName="/ppt/media/image40.png" ContentType="image/png"/>
  <Override PartName="/ppt/media/image38.wmf" ContentType="image/x-wmf"/>
  <Override PartName="/ppt/media/image41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4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0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"/>
          </p:nvPr>
        </p:nvSpPr>
        <p:spPr>
          <a:xfrm>
            <a:off x="3850920" y="-360"/>
            <a:ext cx="28702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685800" y="757080"/>
            <a:ext cx="5354640" cy="37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07920" y="4692600"/>
            <a:ext cx="49053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2"/>
          </p:nvPr>
        </p:nvSpPr>
        <p:spPr>
          <a:xfrm>
            <a:off x="0" y="9391320"/>
            <a:ext cx="2944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3"/>
          </p:nvPr>
        </p:nvSpPr>
        <p:spPr>
          <a:xfrm>
            <a:off x="3850920" y="9391320"/>
            <a:ext cx="28702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300B09E-91CE-46AA-AC2B-E9CCB8BC81ED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51280" y="9391680"/>
            <a:ext cx="2870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270A725-7D85-418D-AAC2-FCA777A815EA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685800" y="757080"/>
            <a:ext cx="5354640" cy="3708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7920" y="4692600"/>
            <a:ext cx="49053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51280" y="9391680"/>
            <a:ext cx="2870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1B9E1C2-E1B8-4A7E-A4A8-54B8ADB24CE2}" type="slidenum">
              <a:rPr b="1" lang="en-US" sz="1100" spc="-1" strike="noStrike">
                <a:solidFill>
                  <a:srgbClr val="000000"/>
                </a:solidFill>
                <a:latin typeface="HY헤드라인M"/>
                <a:ea typeface="굴림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685800" y="757080"/>
            <a:ext cx="5354640" cy="37087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120" y="4692600"/>
            <a:ext cx="4908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3420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8328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512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3420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38328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36520" y="64800"/>
            <a:ext cx="94694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3420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8328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512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3420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38328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36520" y="64800"/>
            <a:ext cx="94694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83420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38328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8512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83420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338328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6520" y="64800"/>
            <a:ext cx="94694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83420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38328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8512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183420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338328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36520" y="64800"/>
            <a:ext cx="94694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36520" y="64800"/>
            <a:ext cx="9469440" cy="30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83420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383280" y="103104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8512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183420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3383280" y="3885120"/>
            <a:ext cx="147492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633040" y="388512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12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633040" y="1031040"/>
            <a:ext cx="223560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5120" y="3885120"/>
            <a:ext cx="4581360" cy="2606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pt form1"/>
          <p:cNvPicPr/>
          <p:nvPr/>
        </p:nvPicPr>
        <p:blipFill>
          <a:blip r:embed="rId2"/>
          <a:stretch/>
        </p:blipFill>
        <p:spPr>
          <a:xfrm>
            <a:off x="0" y="0"/>
            <a:ext cx="9902880" cy="4497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BS_13좌우조합_국영문"/>
          <p:cNvPicPr/>
          <p:nvPr/>
        </p:nvPicPr>
        <p:blipFill>
          <a:blip r:embed="rId3"/>
          <a:stretch/>
        </p:blipFill>
        <p:spPr>
          <a:xfrm>
            <a:off x="2214720" y="5192640"/>
            <a:ext cx="5219640" cy="1328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56" descr=""/>
          <p:cNvPicPr/>
          <p:nvPr/>
        </p:nvPicPr>
        <p:blipFill>
          <a:blip r:embed="rId4"/>
          <a:stretch/>
        </p:blipFill>
        <p:spPr>
          <a:xfrm>
            <a:off x="6723000" y="3295800"/>
            <a:ext cx="3049560" cy="338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pt form4"/>
          <p:cNvPicPr/>
          <p:nvPr/>
        </p:nvPicPr>
        <p:blipFill>
          <a:blip r:embed="rId2"/>
          <a:stretch/>
        </p:blipFill>
        <p:spPr>
          <a:xfrm>
            <a:off x="3240" y="0"/>
            <a:ext cx="9902880" cy="8002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227160" indent="-22716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541440" indent="-1796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900000" indent="-17928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3" marL="1258920" indent="-17928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4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5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6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2" name="Picture 13" descr="pt form5"/>
          <p:cNvPicPr/>
          <p:nvPr/>
        </p:nvPicPr>
        <p:blipFill>
          <a:blip r:embed="rId3"/>
          <a:srcRect l="20157" t="0" r="78112" b="0"/>
          <a:stretch/>
        </p:blipFill>
        <p:spPr>
          <a:xfrm>
            <a:off x="4624560" y="6645240"/>
            <a:ext cx="949320" cy="21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pt form5"/>
          <p:cNvPicPr/>
          <p:nvPr/>
        </p:nvPicPr>
        <p:blipFill>
          <a:blip r:embed="rId4"/>
          <a:srcRect l="0" t="0" r="88193" b="0"/>
          <a:stretch/>
        </p:blipFill>
        <p:spPr>
          <a:xfrm>
            <a:off x="0" y="6645240"/>
            <a:ext cx="4624560" cy="21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pt form5"/>
          <p:cNvPicPr/>
          <p:nvPr/>
        </p:nvPicPr>
        <p:blipFill>
          <a:blip r:embed="rId5"/>
          <a:srcRect l="25197" t="0" r="73324" b="0"/>
          <a:stretch/>
        </p:blipFill>
        <p:spPr>
          <a:xfrm>
            <a:off x="5573880" y="6645240"/>
            <a:ext cx="4332240" cy="212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9258480" y="6651720"/>
            <a:ext cx="779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2772A9F-F15D-477B-9E7C-3BDECA918D01}" type="slidenum"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405360" y="6666480"/>
            <a:ext cx="158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’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15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년 추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KNS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워크숍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_151028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pt form4"/>
          <p:cNvPicPr/>
          <p:nvPr/>
        </p:nvPicPr>
        <p:blipFill>
          <a:blip r:embed="rId2"/>
          <a:stretch/>
        </p:blipFill>
        <p:spPr>
          <a:xfrm>
            <a:off x="3240" y="0"/>
            <a:ext cx="9902880" cy="800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85120" y="1031040"/>
            <a:ext cx="4581360" cy="546408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227160" indent="-22716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541440" indent="-1796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2" marL="900000" indent="-17928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3" marL="1258920" indent="-17928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4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5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6" marL="1616040" indent="-177840">
              <a:spcBef>
                <a:spcPts val="1400"/>
              </a:spcBef>
              <a:spcAft>
                <a:spcPts val="400"/>
              </a:spcAft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86" name="Picture 13" descr="pt form5"/>
          <p:cNvPicPr/>
          <p:nvPr/>
        </p:nvPicPr>
        <p:blipFill>
          <a:blip r:embed="rId3"/>
          <a:srcRect l="20157" t="0" r="78112" b="0"/>
          <a:stretch/>
        </p:blipFill>
        <p:spPr>
          <a:xfrm>
            <a:off x="4624560" y="6645240"/>
            <a:ext cx="949320" cy="212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pt form5"/>
          <p:cNvPicPr/>
          <p:nvPr/>
        </p:nvPicPr>
        <p:blipFill>
          <a:blip r:embed="rId4"/>
          <a:srcRect l="0" t="0" r="88193" b="0"/>
          <a:stretch/>
        </p:blipFill>
        <p:spPr>
          <a:xfrm>
            <a:off x="0" y="6645240"/>
            <a:ext cx="4624560" cy="212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pt form5"/>
          <p:cNvPicPr/>
          <p:nvPr/>
        </p:nvPicPr>
        <p:blipFill>
          <a:blip r:embed="rId5"/>
          <a:srcRect l="25197" t="0" r="73324" b="0"/>
          <a:stretch/>
        </p:blipFill>
        <p:spPr>
          <a:xfrm>
            <a:off x="5573880" y="6645240"/>
            <a:ext cx="4332240" cy="212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9258480" y="6651720"/>
            <a:ext cx="779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E7EE222-C4F9-4D1C-ADF0-BF9996B29676}" type="slidenum"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593280" y="6666480"/>
            <a:ext cx="2929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2015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년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SFR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원형로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NSSS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설계검증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1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  <a:ea typeface="굴림"/>
              </a:rPr>
              <a:t>차 진도점검회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  <a:ea typeface="굴림"/>
              </a:rPr>
              <a:t>_150616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2" descr="pt form4"/>
          <p:cNvPicPr/>
          <p:nvPr/>
        </p:nvPicPr>
        <p:blipFill>
          <a:blip r:embed="rId2"/>
          <a:stretch/>
        </p:blipFill>
        <p:spPr>
          <a:xfrm>
            <a:off x="3240" y="0"/>
            <a:ext cx="9902880" cy="800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9204840" y="6651720"/>
            <a:ext cx="9162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7EFCE9B-4D78-467B-BD6F-68E845940149}" type="slidenum">
              <a:rPr b="1" lang="ko-KR" sz="1200" spc="-1" strike="noStrike">
                <a:solidFill>
                  <a:srgbClr val="000000"/>
                </a:solidFill>
                <a:latin typeface="HY헤드라인M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87640" y="1033560"/>
            <a:ext cx="4576320" cy="54590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txBody>
          <a:bodyPr lIns="90000" rIns="0" tIns="46800" bIns="46800" anchor="t">
            <a:normAutofit/>
          </a:bodyPr>
          <a:p>
            <a:pPr marL="264960" indent="-26496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8560" indent="-18396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981000" indent="-1728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3" marL="1344600" indent="-18396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4" marL="1708200" indent="-18432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5" marL="1708200" indent="-18432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6" marL="1708200" indent="-18432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189360" y="6627960"/>
            <a:ext cx="120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SFR 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개발현황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111111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9"/>
          <p:cNvSpPr/>
          <p:nvPr/>
        </p:nvSpPr>
        <p:spPr>
          <a:xfrm>
            <a:off x="0" y="296244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632240" y="1328040"/>
            <a:ext cx="6699960" cy="146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</a:rPr>
              <a:t>소듐냉각고속로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(SFR)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</a:rPr>
              <a:t>와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</a:rPr>
              <a:t>경수로의 </a:t>
            </a: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NSSS 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</a:rPr>
              <a:t>특성비교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소듐냉각고속로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(SFR), 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경수로와 무엇이 다른가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?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3781080" y="3595320"/>
            <a:ext cx="2399760" cy="109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2015. 10. 28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이 태 호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Main</a:t>
            </a:r>
            <a:r>
              <a:rPr b="0" lang="ko-KR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mponents of PWR 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28600" y="5396040"/>
            <a:ext cx="3144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U-tube steam generator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274" name="Group 160"/>
          <p:cNvGrpSpPr/>
          <p:nvPr/>
        </p:nvGrpSpPr>
        <p:grpSpPr>
          <a:xfrm>
            <a:off x="228600" y="1281240"/>
            <a:ext cx="3144600" cy="3924000"/>
            <a:chOff x="228600" y="1281240"/>
            <a:chExt cx="3144600" cy="3924000"/>
          </a:xfrm>
        </p:grpSpPr>
        <p:pic>
          <p:nvPicPr>
            <p:cNvPr id="275" name="Picture 161" descr="증기발생기구조"/>
            <p:cNvPicPr/>
            <p:nvPr/>
          </p:nvPicPr>
          <p:blipFill>
            <a:blip r:embed="rId1"/>
            <a:stretch/>
          </p:blipFill>
          <p:spPr>
            <a:xfrm>
              <a:off x="727920" y="1342800"/>
              <a:ext cx="2645280" cy="37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62" descr=""/>
            <p:cNvPicPr/>
            <p:nvPr/>
          </p:nvPicPr>
          <p:blipFill>
            <a:blip r:embed="rId2"/>
            <a:stretch/>
          </p:blipFill>
          <p:spPr>
            <a:xfrm>
              <a:off x="228600" y="1281240"/>
              <a:ext cx="1257840" cy="39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Line 163"/>
            <p:cNvSpPr/>
            <p:nvPr/>
          </p:nvSpPr>
          <p:spPr>
            <a:xfrm flipH="1" flipV="1">
              <a:off x="2108880" y="4706640"/>
              <a:ext cx="221760" cy="248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78" name="Line 164"/>
            <p:cNvSpPr/>
            <p:nvPr/>
          </p:nvSpPr>
          <p:spPr>
            <a:xfrm flipH="1" flipV="1">
              <a:off x="948240" y="4768560"/>
              <a:ext cx="221760" cy="248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79" name="Line 165"/>
            <p:cNvSpPr/>
            <p:nvPr/>
          </p:nvSpPr>
          <p:spPr>
            <a:xfrm flipH="1">
              <a:off x="411120" y="4797360"/>
              <a:ext cx="220320" cy="18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80" name="Line 166"/>
            <p:cNvSpPr/>
            <p:nvPr/>
          </p:nvSpPr>
          <p:spPr>
            <a:xfrm flipH="1">
              <a:off x="1637640" y="4806360"/>
              <a:ext cx="169200" cy="234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81" name="Line 167"/>
            <p:cNvSpPr/>
            <p:nvPr/>
          </p:nvSpPr>
          <p:spPr>
            <a:xfrm flipV="1">
              <a:off x="2094480" y="3248640"/>
              <a:ext cx="0" cy="4982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82" name="Line 168"/>
            <p:cNvSpPr/>
            <p:nvPr/>
          </p:nvSpPr>
          <p:spPr>
            <a:xfrm flipV="1">
              <a:off x="1002960" y="3248640"/>
              <a:ext cx="0" cy="498240"/>
            </a:xfrm>
            <a:prstGeom prst="line">
              <a:avLst/>
            </a:prstGeom>
            <a:ln w="3816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83" name="Line 169"/>
            <p:cNvSpPr/>
            <p:nvPr/>
          </p:nvSpPr>
          <p:spPr>
            <a:xfrm>
              <a:off x="646200" y="3252600"/>
              <a:ext cx="0" cy="498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84" name="Line 170"/>
            <p:cNvSpPr/>
            <p:nvPr/>
          </p:nvSpPr>
          <p:spPr>
            <a:xfrm>
              <a:off x="1861560" y="3285720"/>
              <a:ext cx="0" cy="498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pic>
        <p:nvPicPr>
          <p:cNvPr id="285" name="Picture 34" descr="[figure]Reactor Coolant Pump(Model 100A)"/>
          <p:cNvPicPr/>
          <p:nvPr/>
        </p:nvPicPr>
        <p:blipFill>
          <a:blip r:embed="rId3"/>
          <a:stretch/>
        </p:blipFill>
        <p:spPr>
          <a:xfrm>
            <a:off x="3728880" y="1370160"/>
            <a:ext cx="2878200" cy="383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86" name="Picture 39" descr="PRE"/>
          <p:cNvPicPr/>
          <p:nvPr/>
        </p:nvPicPr>
        <p:blipFill>
          <a:blip r:embed="rId4"/>
          <a:stretch/>
        </p:blipFill>
        <p:spPr>
          <a:xfrm>
            <a:off x="8588520" y="728640"/>
            <a:ext cx="1284120" cy="466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8" descr=""/>
          <p:cNvPicPr/>
          <p:nvPr/>
        </p:nvPicPr>
        <p:blipFill>
          <a:blip r:embed="rId5"/>
          <a:stretch/>
        </p:blipFill>
        <p:spPr>
          <a:xfrm>
            <a:off x="6969240" y="1343160"/>
            <a:ext cx="1806480" cy="37987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6"/>
          <p:cNvSpPr/>
          <p:nvPr/>
        </p:nvSpPr>
        <p:spPr>
          <a:xfrm>
            <a:off x="3540240" y="5211720"/>
            <a:ext cx="364464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RCP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aft Seal Type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lvl="1" marL="628560" indent="-1713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tical, single-stage, centrifugal with controlled leakage shaft seals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lvl="1" marL="6285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[Ex] APWR, APR1400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ned-Motor Type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lvl="1" marL="628560" indent="-17136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n-sealed: [Ex] AP600/AP1000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892920" y="5396040"/>
            <a:ext cx="31431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Pressurizer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_x263471792" descr="EMB00000ac80af1"/>
          <p:cNvPicPr/>
          <p:nvPr/>
        </p:nvPicPr>
        <p:blipFill>
          <a:blip r:embed="rId1"/>
          <a:srcRect l="0" t="3465" r="0" b="0"/>
          <a:stretch/>
        </p:blipFill>
        <p:spPr>
          <a:xfrm>
            <a:off x="5938920" y="3745080"/>
            <a:ext cx="2682720" cy="2842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1987560" y="1089000"/>
            <a:ext cx="2682720" cy="4181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Main</a:t>
            </a:r>
            <a:r>
              <a:rPr b="0" lang="ko-KR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mponents of SFR (1/2) 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415800" y="5724360"/>
            <a:ext cx="122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IHX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3105000" y="5724360"/>
            <a:ext cx="36450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Sodium pump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cal pump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 pump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95" name="Picture 3" descr="C:\Users\dehee\Desktop\발표자료\ihx.png"/>
          <p:cNvPicPr/>
          <p:nvPr/>
        </p:nvPicPr>
        <p:blipFill>
          <a:blip r:embed="rId3"/>
          <a:stretch/>
        </p:blipFill>
        <p:spPr>
          <a:xfrm>
            <a:off x="-3240" y="961920"/>
            <a:ext cx="2038320" cy="4653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4"/>
          <a:stretch/>
        </p:blipFill>
        <p:spPr>
          <a:xfrm>
            <a:off x="4708440" y="974880"/>
            <a:ext cx="514368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Main</a:t>
            </a:r>
            <a:r>
              <a:rPr b="0" lang="ko-KR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mponents of SFR (2/2) 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631800" y="6097680"/>
            <a:ext cx="2341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Steam generator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3222720" y="6173640"/>
            <a:ext cx="3232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IVTM &amp; Rotating plug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- Handling fuel assembly inside RV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-433440" y="1592280"/>
            <a:ext cx="2921040" cy="413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2"/>
          <a:stretch/>
        </p:blipFill>
        <p:spPr>
          <a:xfrm>
            <a:off x="1855800" y="1200240"/>
            <a:ext cx="1619280" cy="4714920"/>
          </a:xfrm>
          <a:prstGeom prst="rect">
            <a:avLst/>
          </a:prstGeom>
          <a:ln w="0">
            <a:noFill/>
          </a:ln>
        </p:spPr>
      </p:pic>
      <p:pic>
        <p:nvPicPr>
          <p:cNvPr id="302" name="_x187224720" descr="EMB00001284150b"/>
          <p:cNvPicPr/>
          <p:nvPr/>
        </p:nvPicPr>
        <p:blipFill>
          <a:blip r:embed="rId3"/>
          <a:stretch/>
        </p:blipFill>
        <p:spPr>
          <a:xfrm>
            <a:off x="3743280" y="3862440"/>
            <a:ext cx="2509920" cy="2282760"/>
          </a:xfrm>
          <a:prstGeom prst="rect">
            <a:avLst/>
          </a:prstGeom>
          <a:ln w="0">
            <a:noFill/>
          </a:ln>
        </p:spPr>
      </p:pic>
      <p:grpSp>
        <p:nvGrpSpPr>
          <p:cNvPr id="303" name="그룹 2"/>
          <p:cNvGrpSpPr/>
          <p:nvPr/>
        </p:nvGrpSpPr>
        <p:grpSpPr>
          <a:xfrm>
            <a:off x="3394080" y="863640"/>
            <a:ext cx="5081760" cy="2868480"/>
            <a:chOff x="3394080" y="863640"/>
            <a:chExt cx="5081760" cy="2868480"/>
          </a:xfrm>
        </p:grpSpPr>
        <p:grpSp>
          <p:nvGrpSpPr>
            <p:cNvPr id="304" name="그룹 51"/>
            <p:cNvGrpSpPr/>
            <p:nvPr/>
          </p:nvGrpSpPr>
          <p:grpSpPr>
            <a:xfrm>
              <a:off x="3394080" y="863640"/>
              <a:ext cx="4860720" cy="2868480"/>
              <a:chOff x="3394080" y="863640"/>
              <a:chExt cx="4860720" cy="2868480"/>
            </a:xfrm>
          </p:grpSpPr>
          <p:pic>
            <p:nvPicPr>
              <p:cNvPr id="305" name="그림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3394080" y="863640"/>
                <a:ext cx="4860720" cy="28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직사각형 53"/>
              <p:cNvSpPr/>
              <p:nvPr/>
            </p:nvSpPr>
            <p:spPr>
              <a:xfrm>
                <a:off x="3394080" y="3062160"/>
                <a:ext cx="274320" cy="37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sp>
          <p:nvSpPr>
            <p:cNvPr id="307" name="직사각형 1"/>
            <p:cNvSpPr/>
            <p:nvPr/>
          </p:nvSpPr>
          <p:spPr>
            <a:xfrm>
              <a:off x="6819840" y="863640"/>
              <a:ext cx="1656000" cy="28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pic>
        <p:nvPicPr>
          <p:cNvPr id="308" name="Content Placeholder 4" descr=""/>
          <p:cNvPicPr/>
          <p:nvPr/>
        </p:nvPicPr>
        <p:blipFill>
          <a:blip r:embed="rId5"/>
          <a:stretch/>
        </p:blipFill>
        <p:spPr>
          <a:xfrm>
            <a:off x="6969240" y="3714840"/>
            <a:ext cx="2516040" cy="24066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309" name="그림 3" descr="model.emf"/>
          <p:cNvPicPr/>
          <p:nvPr/>
        </p:nvPicPr>
        <p:blipFill>
          <a:blip r:embed="rId6"/>
          <a:srcRect l="40400" t="7350" r="43089" b="8126"/>
          <a:stretch/>
        </p:blipFill>
        <p:spPr>
          <a:xfrm>
            <a:off x="7786800" y="816120"/>
            <a:ext cx="1090440" cy="28684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6192720" y="6199200"/>
            <a:ext cx="37641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Upper internal structure - Supporting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guide tubes of instrumentation and CRDM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0"/>
          <p:cNvSpPr/>
          <p:nvPr/>
        </p:nvSpPr>
        <p:spPr>
          <a:xfrm>
            <a:off x="2579760" y="2224080"/>
            <a:ext cx="56862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ad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Safety-related Systems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2" name="AutoShape 11"/>
          <p:cNvSpPr/>
          <p:nvPr/>
        </p:nvSpPr>
        <p:spPr>
          <a:xfrm>
            <a:off x="1425600" y="2131920"/>
            <a:ext cx="1082520" cy="1152720"/>
          </a:xfrm>
          <a:prstGeom prst="diamond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헤드라인M"/>
              </a:rPr>
              <a:t>II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52560" y="801720"/>
            <a:ext cx="9653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fety injection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pply borated water during LOCA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move decay heat and long term cooling after LOCA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pply borated water during RCS overcooling event such as MSLB acciden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able Feed-and-Bleed operation along with Safety Depressurization System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inly consist of HPSI pump, SIT or Accumulator, LPSI pump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hutdown cooling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move residual heat after RCS temperature &amp; pressure are decreased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ovide LTOP (Low Temperature Overpressure Protection) of RC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able Long Term Cooling (LTC) in conjunction with LOCA with IRWS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Mainly consist of SC pump, SC heat exchange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xiliary feedwater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move residual heat through steam generator until SCS can initiate the opera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2480" y="64800"/>
            <a:ext cx="600876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PWR Systems (1/3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2480" y="64800"/>
            <a:ext cx="658476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PWR Systems (2/3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tretch/>
        </p:blipFill>
        <p:spPr>
          <a:xfrm>
            <a:off x="590400" y="976320"/>
            <a:ext cx="85392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1"/>
          <p:cNvSpPr/>
          <p:nvPr/>
        </p:nvSpPr>
        <p:spPr>
          <a:xfrm>
            <a:off x="52560" y="801720"/>
            <a:ext cx="52606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fety depressurization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Classical PWR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RDT: Rx Drain Tank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PRV: Press. Relief Valve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R1400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afety Depressurization &amp; Venting System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erated along with IRWS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2" marL="1503360" indent="-22860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LOFW: Feed-Bleed Opera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2200" y="64800"/>
            <a:ext cx="72230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PWR Systems (3/3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992160" y="4276800"/>
            <a:ext cx="2886120" cy="23716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1"/>
          <p:cNvSpPr/>
          <p:nvPr/>
        </p:nvSpPr>
        <p:spPr>
          <a:xfrm>
            <a:off x="4595760" y="822240"/>
            <a:ext cx="525960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AP600/AP1000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ADS: Automatic Depressurization System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ADS-1,2,3 &amp; -4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5421240" y="2790720"/>
            <a:ext cx="42483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1"/>
          <p:cNvSpPr/>
          <p:nvPr/>
        </p:nvSpPr>
        <p:spPr>
          <a:xfrm>
            <a:off x="52560" y="896760"/>
            <a:ext cx="5116320" cy="56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cay Heat Removal System (DHRS)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Remove decay heat after reactor shutdow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 of air cooling for ultimate heat sink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ximize natural circulation capability of sodium due to large temperature difference between heat source &amp; sink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2" marL="1617840" indent="-34308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asy to implement passive &amp; economic feature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2" marL="1617840" indent="-34308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ong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race without any active component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21840" y="64800"/>
            <a:ext cx="449892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SFR Systems (1/5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5643720" y="1123920"/>
            <a:ext cx="356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_x190282120" descr="EMB0000134c252f"/>
          <p:cNvPicPr/>
          <p:nvPr/>
        </p:nvPicPr>
        <p:blipFill>
          <a:blip r:embed="rId1"/>
          <a:stretch/>
        </p:blipFill>
        <p:spPr>
          <a:xfrm>
            <a:off x="5857920" y="4124160"/>
            <a:ext cx="4056120" cy="218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1840" y="64800"/>
            <a:ext cx="449892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SFR Systems (2/5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rcRect l="0" t="9055" r="0" b="0"/>
          <a:stretch/>
        </p:blipFill>
        <p:spPr>
          <a:xfrm>
            <a:off x="9360" y="1476360"/>
            <a:ext cx="6186600" cy="426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1"/>
          <p:cNvSpPr/>
          <p:nvPr/>
        </p:nvSpPr>
        <p:spPr>
          <a:xfrm>
            <a:off x="52560" y="801720"/>
            <a:ext cx="48639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DHRS option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6716880" y="801720"/>
            <a:ext cx="2597040" cy="29671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16"/>
          <p:cNvSpPr/>
          <p:nvPr/>
        </p:nvSpPr>
        <p:spPr>
          <a:xfrm>
            <a:off x="6972480" y="3789360"/>
            <a:ext cx="23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RVACS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6845400" y="6313320"/>
            <a:ext cx="23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SGACS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1840" y="64800"/>
            <a:ext cx="449892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SFR Systems (3/5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104760" y="1052640"/>
            <a:ext cx="9691560" cy="4752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8"/>
          <p:cNvSpPr/>
          <p:nvPr/>
        </p:nvSpPr>
        <p:spPr>
          <a:xfrm>
            <a:off x="236520" y="65160"/>
            <a:ext cx="94694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헤드라인M"/>
              </a:rPr>
              <a:t>목 차</a:t>
            </a:r>
            <a:endParaRPr b="1" lang="en-US" sz="3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192320" y="1598760"/>
            <a:ext cx="7812000" cy="68580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8ad8ec"/>
            </a:solidFill>
            <a:miter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2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5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NSSS Characteristics</a:t>
            </a:r>
            <a:r>
              <a:rPr b="0" lang="ko-KR" sz="2800" spc="-1" strike="noStrike">
                <a:solidFill>
                  <a:srgbClr val="000000"/>
                </a:solidFill>
                <a:latin typeface="HY헤드라인M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16" name="Picture 5" descr="공"/>
          <p:cNvPicPr/>
          <p:nvPr/>
        </p:nvPicPr>
        <p:blipFill>
          <a:blip r:embed="rId1"/>
          <a:stretch/>
        </p:blipFill>
        <p:spPr>
          <a:xfrm>
            <a:off x="1162080" y="1550880"/>
            <a:ext cx="900000" cy="8272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440000" y="1633680"/>
            <a:ext cx="455400" cy="5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산돌고딕B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1184400" y="2446200"/>
            <a:ext cx="7819920" cy="68580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8ad8ec"/>
            </a:solidFill>
            <a:miter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72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afety-related Systems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19" name="Picture 14" descr="공"/>
          <p:cNvPicPr/>
          <p:nvPr/>
        </p:nvPicPr>
        <p:blipFill>
          <a:blip r:embed="rId2"/>
          <a:stretch/>
        </p:blipFill>
        <p:spPr>
          <a:xfrm>
            <a:off x="1154160" y="2398680"/>
            <a:ext cx="900000" cy="827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1328760" y="2470320"/>
            <a:ext cx="453960" cy="52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산돌고딕B"/>
              </a:rPr>
              <a:t>II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52560" y="800280"/>
            <a:ext cx="5800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dium-Water Reaction Pressure Relief System (SWRPRS)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Mitigate the consequence of large SWR in SG by relieving the pressure caused by produced hydrogen   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Can be design as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HY헤드라인M"/>
              </a:rPr>
              <a:t>non-safety system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large leak in S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pressure increase due to hydrogen → rupture disk bursts → discharge SWR product to sodium dump tank, SG isolation, drain steam/water inside SG into water dump tank → purge SG with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gas 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SG leak is detected by hydrogen meter (small leak), pressure gauge (medium leak) and rupture disk (large leak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1840" y="64800"/>
            <a:ext cx="449892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SFR Systems (4/5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5972040" y="1212840"/>
            <a:ext cx="36640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1"/>
          <p:cNvSpPr/>
          <p:nvPr/>
        </p:nvSpPr>
        <p:spPr>
          <a:xfrm>
            <a:off x="52560" y="954000"/>
            <a:ext cx="51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SG leak detection and actio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1840" y="64800"/>
            <a:ext cx="449892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SFR Systems (5/5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61920" y="1916280"/>
            <a:ext cx="5033880" cy="3740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rcRect l="15171" t="0" r="569" b="0"/>
          <a:stretch/>
        </p:blipFill>
        <p:spPr>
          <a:xfrm>
            <a:off x="4989600" y="1916280"/>
            <a:ext cx="4814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10"/>
          <p:cNvSpPr/>
          <p:nvPr/>
        </p:nvSpPr>
        <p:spPr>
          <a:xfrm>
            <a:off x="2543040" y="2224080"/>
            <a:ext cx="56865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adc2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NSSS Characteristics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389240" y="2131920"/>
            <a:ext cx="1082520" cy="1152720"/>
          </a:xfrm>
          <a:prstGeom prst="diamond">
            <a:avLst/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Y헤드라인M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1"/>
          <p:cNvSpPr/>
          <p:nvPr/>
        </p:nvSpPr>
        <p:spPr>
          <a:xfrm>
            <a:off x="309600" y="915840"/>
            <a:ext cx="492912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WR (Pressurized Water Reactor)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latively low temperature configuration (compared with SFR) with high pressure design  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ater coolant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ne coolant loop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FR (Sodium cooled Fast Reactor)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High temperature configuration with ordinary pressure design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Sodium coolant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(high thermal efficiency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Two coolant loop (PHTS &amp; IHTS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헤드라인M"/>
              </a:rPr>
              <a:t>Employing IHTS to mitigate SWR consequences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Overall Configuration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238720" y="1077840"/>
            <a:ext cx="4429080" cy="5105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9993d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62680" y="1808280"/>
            <a:ext cx="4856040" cy="3528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85760" y="811080"/>
            <a:ext cx="653112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ahoma"/>
              </a:rPr>
              <a:t>RCS configuration 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4-loop type (N-loop type): 4 HL, 4 CL, 4 SG, 4 RCP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ramatome (P4, N4), AREVA (EPR), MHI (APWR)]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2x4 loop type: 2 HL, 4 CL, 2 SG, 4 RCP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PR1000/APR14000; AP600/AP1000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ahoma"/>
              </a:rPr>
              <a:t>Operating pressure &amp; temperature 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re outlet temperature: 320~33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mp. increase through core: 30~4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bcooling: ~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 at HL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essure: 15~16 MPa (Controlled by PZR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ahoma"/>
              </a:rPr>
              <a:t>Basically saturated steam Rankine cycle as power conversion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fficiency: ~32%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olant System of PWR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6" descr="loop"/>
          <p:cNvPicPr/>
          <p:nvPr/>
        </p:nvPicPr>
        <p:blipFill>
          <a:blip r:embed="rId1"/>
          <a:stretch/>
        </p:blipFill>
        <p:spPr>
          <a:xfrm>
            <a:off x="4862520" y="4237200"/>
            <a:ext cx="5033880" cy="1892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pool"/>
          <p:cNvPicPr/>
          <p:nvPr/>
        </p:nvPicPr>
        <p:blipFill>
          <a:blip r:embed="rId2"/>
          <a:stretch/>
        </p:blipFill>
        <p:spPr>
          <a:xfrm>
            <a:off x="5389560" y="1725480"/>
            <a:ext cx="4071960" cy="1764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1"/>
          <p:cNvSpPr/>
          <p:nvPr/>
        </p:nvSpPr>
        <p:spPr>
          <a:xfrm>
            <a:off x="185760" y="811080"/>
            <a:ext cx="530712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PHTS/IHTS configuration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ool type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revent sodium leakage by locating primary pumps and IHXs inside RV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limination of primary piping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ild transient response due to large thermal capacity of sodium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duce reactor vessel (RV) penetrations 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ifficult in inspection/maintenance due to many components inside RV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henix, BN-600, PFBR, BN-800, Super Phenix, PRISM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op type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Easy inspection/maintenance for primary pump, IHX, and primary piping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d natural circulation characteristics 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enetrations on RV and longer piping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apid tran. response compared to pool type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N-350, CRBR, MONJU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olant System of SFR (1/2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1"/>
          <p:cNvSpPr/>
          <p:nvPr/>
        </p:nvSpPr>
        <p:spPr>
          <a:xfrm>
            <a:off x="185760" y="811080"/>
            <a:ext cx="653112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ahoma"/>
              </a:rPr>
              <a:t>Operating pressure &amp; temperature 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re outlet temperature: 500~55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mp. increase through core: 130~17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ressure: ~0.1 Mpa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odium boiling temp.: 883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58920" indent="-35892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ahoma"/>
              </a:rPr>
              <a:t>Superheated steam Rankine cycle as power conversion system</a:t>
            </a:r>
            <a:endParaRPr b="1" lang="en-US" sz="21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19044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fficiency: ~40%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Coolant System of SFR (2/2)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그룹 35"/>
          <p:cNvGrpSpPr/>
          <p:nvPr/>
        </p:nvGrpSpPr>
        <p:grpSpPr>
          <a:xfrm>
            <a:off x="3621240" y="1506600"/>
            <a:ext cx="5862600" cy="4887360"/>
            <a:chOff x="3621240" y="1506600"/>
            <a:chExt cx="5862600" cy="4887360"/>
          </a:xfrm>
        </p:grpSpPr>
        <p:sp>
          <p:nvSpPr>
            <p:cNvPr id="236" name="Text Box 16"/>
            <p:cNvSpPr/>
            <p:nvPr/>
          </p:nvSpPr>
          <p:spPr>
            <a:xfrm>
              <a:off x="6291360" y="6026400"/>
              <a:ext cx="19764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HY헤드라인M"/>
                </a:rPr>
                <a:t>&lt;SFR- Pool type PGSFR&gt;</a:t>
              </a:r>
              <a:endParaRPr b="1" lang="en-US" sz="12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pic>
          <p:nvPicPr>
            <p:cNvPr id="237" name="그림 26" descr=""/>
            <p:cNvPicPr/>
            <p:nvPr/>
          </p:nvPicPr>
          <p:blipFill>
            <a:blip r:embed="rId1"/>
            <a:stretch/>
          </p:blipFill>
          <p:spPr>
            <a:xfrm>
              <a:off x="3621240" y="1511640"/>
              <a:ext cx="5862600" cy="40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직사각형 29"/>
            <p:cNvSpPr/>
            <p:nvPr/>
          </p:nvSpPr>
          <p:spPr>
            <a:xfrm>
              <a:off x="3621240" y="2167560"/>
              <a:ext cx="1448280" cy="153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grpSp>
          <p:nvGrpSpPr>
            <p:cNvPr id="239" name="그룹 33"/>
            <p:cNvGrpSpPr/>
            <p:nvPr/>
          </p:nvGrpSpPr>
          <p:grpSpPr>
            <a:xfrm>
              <a:off x="4889520" y="1506600"/>
              <a:ext cx="3348360" cy="2032920"/>
              <a:chOff x="4889520" y="1506600"/>
              <a:chExt cx="3348360" cy="2032920"/>
            </a:xfrm>
          </p:grpSpPr>
          <p:sp>
            <p:nvSpPr>
              <p:cNvPr id="240" name="직사각형 1"/>
              <p:cNvSpPr/>
              <p:nvPr/>
            </p:nvSpPr>
            <p:spPr>
              <a:xfrm>
                <a:off x="7606800" y="1506600"/>
                <a:ext cx="61200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1" name="직사각형 28"/>
              <p:cNvSpPr/>
              <p:nvPr/>
            </p:nvSpPr>
            <p:spPr>
              <a:xfrm>
                <a:off x="7279200" y="2032560"/>
                <a:ext cx="95868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2" name="직사각형 30"/>
              <p:cNvSpPr/>
              <p:nvPr/>
            </p:nvSpPr>
            <p:spPr>
              <a:xfrm>
                <a:off x="5355000" y="2440800"/>
                <a:ext cx="34344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3" name="직사각형 31"/>
              <p:cNvSpPr/>
              <p:nvPr/>
            </p:nvSpPr>
            <p:spPr>
              <a:xfrm>
                <a:off x="5301360" y="2618640"/>
                <a:ext cx="39708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4" name="직사각형 2"/>
              <p:cNvSpPr/>
              <p:nvPr/>
            </p:nvSpPr>
            <p:spPr>
              <a:xfrm>
                <a:off x="4889520" y="2560680"/>
                <a:ext cx="252000" cy="97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245" name="직사각형 34"/>
              <p:cNvSpPr/>
              <p:nvPr/>
            </p:nvSpPr>
            <p:spPr>
              <a:xfrm>
                <a:off x="5453640" y="2504160"/>
                <a:ext cx="282600" cy="62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71440" indent="-271440"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Overall Arrangement 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147680" y="6049800"/>
            <a:ext cx="1976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PWR-2x4 loop type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248" name="Group 102"/>
          <p:cNvGrpSpPr/>
          <p:nvPr/>
        </p:nvGrpSpPr>
        <p:grpSpPr>
          <a:xfrm>
            <a:off x="412920" y="1224000"/>
            <a:ext cx="3622320" cy="4673160"/>
            <a:chOff x="412920" y="1224000"/>
            <a:chExt cx="3622320" cy="4673160"/>
          </a:xfrm>
        </p:grpSpPr>
        <p:pic>
          <p:nvPicPr>
            <p:cNvPr id="249" name="Picture 41" descr="loop type pwr-7"/>
            <p:cNvPicPr/>
            <p:nvPr/>
          </p:nvPicPr>
          <p:blipFill>
            <a:blip r:embed="rId2"/>
            <a:stretch/>
          </p:blipFill>
          <p:spPr>
            <a:xfrm>
              <a:off x="2085840" y="2754000"/>
              <a:ext cx="1297080" cy="17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44" descr="loop type pwr-3"/>
            <p:cNvPicPr/>
            <p:nvPr/>
          </p:nvPicPr>
          <p:blipFill>
            <a:blip r:embed="rId3"/>
            <a:stretch/>
          </p:blipFill>
          <p:spPr>
            <a:xfrm>
              <a:off x="2542680" y="1350360"/>
              <a:ext cx="1406880" cy="34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2" descr="loop type pwr-8"/>
            <p:cNvPicPr/>
            <p:nvPr/>
          </p:nvPicPr>
          <p:blipFill>
            <a:blip r:embed="rId4"/>
            <a:stretch/>
          </p:blipFill>
          <p:spPr>
            <a:xfrm>
              <a:off x="2394720" y="1224000"/>
              <a:ext cx="500760" cy="23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43" descr="loop type1"/>
            <p:cNvPicPr/>
            <p:nvPr/>
          </p:nvPicPr>
          <p:blipFill>
            <a:blip r:embed="rId5"/>
            <a:stretch/>
          </p:blipFill>
          <p:spPr>
            <a:xfrm>
              <a:off x="1869480" y="1664640"/>
              <a:ext cx="781200" cy="42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0" descr="loop type pwr-6"/>
            <p:cNvPicPr/>
            <p:nvPr/>
          </p:nvPicPr>
          <p:blipFill>
            <a:blip r:embed="rId6"/>
            <a:stretch/>
          </p:blipFill>
          <p:spPr>
            <a:xfrm>
              <a:off x="412920" y="3024720"/>
              <a:ext cx="1540080" cy="21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5" descr="loop type pwr-5"/>
            <p:cNvPicPr/>
            <p:nvPr/>
          </p:nvPicPr>
          <p:blipFill>
            <a:blip r:embed="rId7"/>
            <a:stretch/>
          </p:blipFill>
          <p:spPr>
            <a:xfrm>
              <a:off x="2472480" y="3196440"/>
              <a:ext cx="1562760" cy="190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6" descr="loop type pwr-2"/>
            <p:cNvPicPr/>
            <p:nvPr/>
          </p:nvPicPr>
          <p:blipFill>
            <a:blip r:embed="rId8"/>
            <a:stretch/>
          </p:blipFill>
          <p:spPr>
            <a:xfrm>
              <a:off x="532440" y="1692360"/>
              <a:ext cx="1496160" cy="323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7" descr="loop type pwr-4"/>
            <p:cNvPicPr/>
            <p:nvPr/>
          </p:nvPicPr>
          <p:blipFill>
            <a:blip r:embed="rId9"/>
            <a:stretch/>
          </p:blipFill>
          <p:spPr>
            <a:xfrm>
              <a:off x="767520" y="3439800"/>
              <a:ext cx="1560600" cy="192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520" y="64800"/>
            <a:ext cx="9469440" cy="663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헤드라인M"/>
              </a:rPr>
              <a:t>Arrangement inside Reactor Vessel </a:t>
            </a:r>
            <a:endParaRPr b="0" lang="en-US" sz="3000" spc="-1" strike="noStrike">
              <a:solidFill>
                <a:srgbClr val="ffffff"/>
              </a:solidFill>
              <a:latin typeface="HY헤드라인M"/>
            </a:endParaRPr>
          </a:p>
        </p:txBody>
      </p:sp>
      <p:grpSp>
        <p:nvGrpSpPr>
          <p:cNvPr id="258" name="그룹 2"/>
          <p:cNvGrpSpPr/>
          <p:nvPr/>
        </p:nvGrpSpPr>
        <p:grpSpPr>
          <a:xfrm>
            <a:off x="4145040" y="1025640"/>
            <a:ext cx="3271680" cy="2879640"/>
            <a:chOff x="4145040" y="1025640"/>
            <a:chExt cx="3271680" cy="2879640"/>
          </a:xfrm>
        </p:grpSpPr>
        <p:pic>
          <p:nvPicPr>
            <p:cNvPr id="259" name="그림 7" descr=""/>
            <p:cNvPicPr/>
            <p:nvPr/>
          </p:nvPicPr>
          <p:blipFill>
            <a:blip r:embed="rId1"/>
            <a:stretch/>
          </p:blipFill>
          <p:spPr>
            <a:xfrm>
              <a:off x="4145040" y="1025640"/>
              <a:ext cx="327168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Box 1"/>
            <p:cNvSpPr/>
            <p:nvPr/>
          </p:nvSpPr>
          <p:spPr>
            <a:xfrm>
              <a:off x="6437520" y="2492280"/>
              <a:ext cx="37116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HY헤드라인M"/>
                </a:rPr>
                <a:t>IHX</a:t>
              </a:r>
              <a:endParaRPr b="1" lang="en-US" sz="9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pic>
        <p:nvPicPr>
          <p:cNvPr id="261" name="그림 8" descr=""/>
          <p:cNvPicPr/>
          <p:nvPr/>
        </p:nvPicPr>
        <p:blipFill>
          <a:blip r:embed="rId2"/>
          <a:srcRect l="5886" t="5929" r="5882" b="5882"/>
          <a:stretch/>
        </p:blipFill>
        <p:spPr>
          <a:xfrm>
            <a:off x="6902280" y="1273320"/>
            <a:ext cx="2268720" cy="2270160"/>
          </a:xfrm>
          <a:prstGeom prst="rect">
            <a:avLst/>
          </a:prstGeom>
          <a:ln w="0">
            <a:noFill/>
          </a:ln>
        </p:spPr>
      </p:pic>
      <p:pic>
        <p:nvPicPr>
          <p:cNvPr id="262" name="그림 7" descr=""/>
          <p:cNvPicPr/>
          <p:nvPr/>
        </p:nvPicPr>
        <p:blipFill>
          <a:blip r:embed="rId3"/>
          <a:stretch/>
        </p:blipFill>
        <p:spPr>
          <a:xfrm>
            <a:off x="4633920" y="3905280"/>
            <a:ext cx="4390920" cy="2511360"/>
          </a:xfrm>
          <a:prstGeom prst="rect">
            <a:avLst/>
          </a:prstGeom>
          <a:ln w="0">
            <a:noFill/>
          </a:ln>
        </p:spPr>
      </p:pic>
      <p:grpSp>
        <p:nvGrpSpPr>
          <p:cNvPr id="263" name="그룹 6"/>
          <p:cNvGrpSpPr/>
          <p:nvPr/>
        </p:nvGrpSpPr>
        <p:grpSpPr>
          <a:xfrm>
            <a:off x="272880" y="1008000"/>
            <a:ext cx="4003920" cy="5222880"/>
            <a:chOff x="272880" y="1008000"/>
            <a:chExt cx="4003920" cy="5222880"/>
          </a:xfrm>
        </p:grpSpPr>
        <p:pic>
          <p:nvPicPr>
            <p:cNvPr id="264" name="Picture 4" descr=""/>
            <p:cNvPicPr/>
            <p:nvPr/>
          </p:nvPicPr>
          <p:blipFill>
            <a:blip r:embed="rId4"/>
            <a:stretch/>
          </p:blipFill>
          <p:spPr>
            <a:xfrm>
              <a:off x="272880" y="1008000"/>
              <a:ext cx="4003920" cy="52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오른쪽 화살표 1"/>
            <p:cNvSpPr/>
            <p:nvPr/>
          </p:nvSpPr>
          <p:spPr>
            <a:xfrm>
              <a:off x="748800" y="3486600"/>
              <a:ext cx="504000" cy="12420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6" name="아래쪽 화살표 2"/>
            <p:cNvSpPr/>
            <p:nvPr/>
          </p:nvSpPr>
          <p:spPr>
            <a:xfrm>
              <a:off x="1418040" y="3702600"/>
              <a:ext cx="98280" cy="360000"/>
            </a:xfrm>
            <a:prstGeom prst="downArrow">
              <a:avLst>
                <a:gd name="adj1" fmla="val 50000"/>
                <a:gd name="adj2" fmla="val 501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7" name="오른쪽 화살표 3"/>
            <p:cNvSpPr/>
            <p:nvPr/>
          </p:nvSpPr>
          <p:spPr>
            <a:xfrm>
              <a:off x="1490040" y="5646960"/>
              <a:ext cx="266760" cy="7200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8" name="위쪽 화살표 4"/>
            <p:cNvSpPr/>
            <p:nvPr/>
          </p:nvSpPr>
          <p:spPr>
            <a:xfrm>
              <a:off x="2079000" y="4494960"/>
              <a:ext cx="144000" cy="2880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269" name="오른쪽 화살표 5"/>
            <p:cNvSpPr/>
            <p:nvPr/>
          </p:nvSpPr>
          <p:spPr>
            <a:xfrm>
              <a:off x="2981160" y="3465360"/>
              <a:ext cx="288000" cy="153720"/>
            </a:xfrm>
            <a:prstGeom prst="rightArrow">
              <a:avLst>
                <a:gd name="adj1" fmla="val 50000"/>
                <a:gd name="adj2" fmla="val 5004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  <p:sp>
        <p:nvSpPr>
          <p:cNvPr id="270" name="Text Box 16"/>
          <p:cNvSpPr/>
          <p:nvPr/>
        </p:nvSpPr>
        <p:spPr>
          <a:xfrm>
            <a:off x="1147680" y="6230880"/>
            <a:ext cx="1976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PWR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651640" y="6280200"/>
            <a:ext cx="1976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&lt;SFR- Pool type PGSFR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6T00:56:56Z</dcterms:created>
  <dc:creator>한지웅/책임연구원/고속로설계부</dc:creator>
  <dc:description/>
  <dc:language>en-US</dc:language>
  <cp:lastModifiedBy>THLEE</cp:lastModifiedBy>
  <cp:lastPrinted>2015-10-06T04:39:12Z</cp:lastPrinted>
  <dcterms:modified xsi:type="dcterms:W3CDTF">2015-10-16T01:39:22Z</dcterms:modified>
  <cp:revision>4075</cp:revision>
  <dc:subject/>
  <dc:title>슬라이드 1</dc:title>
</cp:coreProperties>
</file>