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1.png" ContentType="image/png"/>
  <Override PartName="/ppt/media/image6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3.jpeg" ContentType="image/jpeg"/>
  <Override PartName="/ppt/media/image15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1"/>
          </p:nvPr>
        </p:nvSpPr>
        <p:spPr>
          <a:xfrm>
            <a:off x="3886200" y="0"/>
            <a:ext cx="2897280" cy="5335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700200" y="761760"/>
            <a:ext cx="5387760" cy="37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709560" y="4721040"/>
            <a:ext cx="5440320" cy="4498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2"/>
          </p:nvPr>
        </p:nvSpPr>
        <p:spPr>
          <a:xfrm>
            <a:off x="-36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3"/>
          </p:nvPr>
        </p:nvSpPr>
        <p:spPr>
          <a:xfrm>
            <a:off x="3886200" y="9448920"/>
            <a:ext cx="289728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8DB919EF-4C00-4770-B209-DA052EDFC55C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9448920"/>
            <a:ext cx="289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92CDF496-04CD-4D69-AEAE-5A08A22017E9}" type="slidenum">
              <a:rPr b="0" lang="en-US" sz="11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700200" y="762120"/>
            <a:ext cx="5387760" cy="37306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09560" y="4721040"/>
            <a:ext cx="54403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0520" y="136440"/>
            <a:ext cx="9329760" cy="55584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1260"/>
              </a:solidFill>
              <a:latin typeface="HY헤드라인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35080" y="981000"/>
            <a:ext cx="4681800" cy="2653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35080" y="3887280"/>
            <a:ext cx="4681800" cy="2653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0520" y="136440"/>
            <a:ext cx="9329760" cy="55584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1260"/>
              </a:solidFill>
              <a:latin typeface="HY헤드라인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5080" y="981000"/>
            <a:ext cx="2284560" cy="2653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34120" y="981000"/>
            <a:ext cx="2284560" cy="2653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35080" y="3887280"/>
            <a:ext cx="2284560" cy="2653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2634120" y="3887280"/>
            <a:ext cx="2284560" cy="2653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90520" y="136440"/>
            <a:ext cx="9329760" cy="55584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1260"/>
              </a:solidFill>
              <a:latin typeface="HY헤드라인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35080" y="981000"/>
            <a:ext cx="1507320" cy="2653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818000" y="981000"/>
            <a:ext cx="1507320" cy="2653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01280" y="981000"/>
            <a:ext cx="1507320" cy="2653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35080" y="3887280"/>
            <a:ext cx="1507320" cy="2653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1818000" y="3887280"/>
            <a:ext cx="1507320" cy="2653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3401280" y="3887280"/>
            <a:ext cx="1507320" cy="2653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0520" y="136440"/>
            <a:ext cx="9329760" cy="55584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1260"/>
              </a:solidFill>
              <a:latin typeface="HY헤드라인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35080" y="981000"/>
            <a:ext cx="4681800" cy="55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0520" y="136440"/>
            <a:ext cx="9329760" cy="55584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1260"/>
              </a:solidFill>
              <a:latin typeface="HY헤드라인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35080" y="981000"/>
            <a:ext cx="4681800" cy="5564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90520" y="136440"/>
            <a:ext cx="9329760" cy="55584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1260"/>
              </a:solidFill>
              <a:latin typeface="HY헤드라인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35080" y="981000"/>
            <a:ext cx="2284560" cy="5564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634120" y="981000"/>
            <a:ext cx="2284560" cy="5564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0520" y="136440"/>
            <a:ext cx="9329760" cy="55584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1260"/>
              </a:solidFill>
              <a:latin typeface="HY헤드라인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90520" y="136440"/>
            <a:ext cx="932976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90520" y="136440"/>
            <a:ext cx="9329760" cy="55584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1260"/>
              </a:solidFill>
              <a:latin typeface="HY헤드라인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35080" y="981000"/>
            <a:ext cx="2284560" cy="2653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634120" y="981000"/>
            <a:ext cx="2284560" cy="5564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35080" y="3887280"/>
            <a:ext cx="2284560" cy="2653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90520" y="136440"/>
            <a:ext cx="9329760" cy="55584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1260"/>
              </a:solidFill>
              <a:latin typeface="HY헤드라인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35080" y="981000"/>
            <a:ext cx="4681800" cy="55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90520" y="136440"/>
            <a:ext cx="9329760" cy="55584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1260"/>
              </a:solidFill>
              <a:latin typeface="HY헤드라인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35080" y="981000"/>
            <a:ext cx="2284560" cy="5564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2634120" y="981000"/>
            <a:ext cx="2284560" cy="2653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634120" y="3887280"/>
            <a:ext cx="2284560" cy="2653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90520" y="136440"/>
            <a:ext cx="9329760" cy="55584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1260"/>
              </a:solidFill>
              <a:latin typeface="HY헤드라인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35080" y="981000"/>
            <a:ext cx="2284560" cy="2653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634120" y="981000"/>
            <a:ext cx="2284560" cy="2653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35080" y="3887280"/>
            <a:ext cx="4681800" cy="2653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90520" y="136440"/>
            <a:ext cx="9329760" cy="55584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1260"/>
              </a:solidFill>
              <a:latin typeface="HY헤드라인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35080" y="981000"/>
            <a:ext cx="4681800" cy="2653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35080" y="3887280"/>
            <a:ext cx="4681800" cy="2653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90520" y="136440"/>
            <a:ext cx="9329760" cy="55584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1260"/>
              </a:solidFill>
              <a:latin typeface="HY헤드라인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35080" y="981000"/>
            <a:ext cx="2284560" cy="2653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634120" y="981000"/>
            <a:ext cx="2284560" cy="2653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35080" y="3887280"/>
            <a:ext cx="2284560" cy="2653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2634120" y="3887280"/>
            <a:ext cx="2284560" cy="2653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0520" y="136440"/>
            <a:ext cx="9329760" cy="55584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1260"/>
              </a:solidFill>
              <a:latin typeface="HY헤드라인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35080" y="981000"/>
            <a:ext cx="1507320" cy="2653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818000" y="981000"/>
            <a:ext cx="1507320" cy="2653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01280" y="981000"/>
            <a:ext cx="1507320" cy="2653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35080" y="3887280"/>
            <a:ext cx="1507320" cy="2653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1818000" y="3887280"/>
            <a:ext cx="1507320" cy="2653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3401280" y="3887280"/>
            <a:ext cx="1507320" cy="2653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90520" y="136440"/>
            <a:ext cx="9329760" cy="55584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1260"/>
              </a:solidFill>
              <a:latin typeface="HY헤드라인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35080" y="981000"/>
            <a:ext cx="4681800" cy="556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0520" y="136440"/>
            <a:ext cx="9329760" cy="55584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1260"/>
              </a:solidFill>
              <a:latin typeface="HY헤드라인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35080" y="981000"/>
            <a:ext cx="4681800" cy="5564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90520" y="136440"/>
            <a:ext cx="9329760" cy="55584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1260"/>
              </a:solidFill>
              <a:latin typeface="HY헤드라인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35080" y="981000"/>
            <a:ext cx="2284560" cy="5564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634120" y="981000"/>
            <a:ext cx="2284560" cy="5564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90520" y="136440"/>
            <a:ext cx="9329760" cy="55584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1260"/>
              </a:solidFill>
              <a:latin typeface="HY헤드라인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90520" y="136440"/>
            <a:ext cx="9329760" cy="55584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1260"/>
              </a:solidFill>
              <a:latin typeface="HY헤드라인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35080" y="981000"/>
            <a:ext cx="4681800" cy="5564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90520" y="136440"/>
            <a:ext cx="932976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0520" y="136440"/>
            <a:ext cx="9329760" cy="55584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1260"/>
              </a:solidFill>
              <a:latin typeface="HY헤드라인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5080" y="981000"/>
            <a:ext cx="2284560" cy="2653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2634120" y="981000"/>
            <a:ext cx="2284560" cy="5564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35080" y="3887280"/>
            <a:ext cx="2284560" cy="2653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0520" y="136440"/>
            <a:ext cx="9329760" cy="55584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1260"/>
              </a:solidFill>
              <a:latin typeface="HY헤드라인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35080" y="981000"/>
            <a:ext cx="2284560" cy="5564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2634120" y="981000"/>
            <a:ext cx="2284560" cy="2653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634120" y="3887280"/>
            <a:ext cx="2284560" cy="2653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90520" y="136440"/>
            <a:ext cx="9329760" cy="55584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1260"/>
              </a:solidFill>
              <a:latin typeface="HY헤드라인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35080" y="981000"/>
            <a:ext cx="2284560" cy="2653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2634120" y="981000"/>
            <a:ext cx="2284560" cy="2653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35080" y="3887280"/>
            <a:ext cx="4681800" cy="2653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90520" y="136440"/>
            <a:ext cx="9329760" cy="55584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1260"/>
              </a:solidFill>
              <a:latin typeface="HY헤드라인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35080" y="981000"/>
            <a:ext cx="4681800" cy="2653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35080" y="3887280"/>
            <a:ext cx="4681800" cy="2653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90520" y="136440"/>
            <a:ext cx="9329760" cy="55584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1260"/>
              </a:solidFill>
              <a:latin typeface="HY헤드라인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35080" y="981000"/>
            <a:ext cx="2284560" cy="2653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634120" y="981000"/>
            <a:ext cx="2284560" cy="2653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35080" y="3887280"/>
            <a:ext cx="2284560" cy="2653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2634120" y="3887280"/>
            <a:ext cx="2284560" cy="2653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0520" y="136440"/>
            <a:ext cx="9329760" cy="55584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1260"/>
              </a:solidFill>
              <a:latin typeface="HY헤드라인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35080" y="981000"/>
            <a:ext cx="1507320" cy="2653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818000" y="981000"/>
            <a:ext cx="1507320" cy="2653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401280" y="981000"/>
            <a:ext cx="1507320" cy="2653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235080" y="3887280"/>
            <a:ext cx="1507320" cy="2653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1818000" y="3887280"/>
            <a:ext cx="1507320" cy="2653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3401280" y="3887280"/>
            <a:ext cx="1507320" cy="2653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0520" y="136440"/>
            <a:ext cx="9329760" cy="55584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1260"/>
              </a:solidFill>
              <a:latin typeface="HY헤드라인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35080" y="981000"/>
            <a:ext cx="2284560" cy="5564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2634120" y="981000"/>
            <a:ext cx="2284560" cy="5564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0520" y="136440"/>
            <a:ext cx="9329760" cy="55584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1260"/>
              </a:solidFill>
              <a:latin typeface="HY헤드라인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90520" y="136440"/>
            <a:ext cx="932976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0520" y="136440"/>
            <a:ext cx="9329760" cy="55584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1260"/>
              </a:solidFill>
              <a:latin typeface="HY헤드라인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35080" y="981000"/>
            <a:ext cx="2284560" cy="2653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634120" y="981000"/>
            <a:ext cx="2284560" cy="5564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35080" y="3887280"/>
            <a:ext cx="2284560" cy="2653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0520" y="136440"/>
            <a:ext cx="9329760" cy="55584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1260"/>
              </a:solidFill>
              <a:latin typeface="HY헤드라인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35080" y="981000"/>
            <a:ext cx="2284560" cy="5564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634120" y="981000"/>
            <a:ext cx="2284560" cy="2653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634120" y="3887280"/>
            <a:ext cx="2284560" cy="2653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0520" y="136440"/>
            <a:ext cx="9329760" cy="55584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1260"/>
              </a:solidFill>
              <a:latin typeface="HY헤드라인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35080" y="981000"/>
            <a:ext cx="2284560" cy="2653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634120" y="981000"/>
            <a:ext cx="2284560" cy="2653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35080" y="3887280"/>
            <a:ext cx="4681800" cy="2653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그림 7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4889520"/>
          </a:xfrm>
          <a:prstGeom prst="rect">
            <a:avLst/>
          </a:prstGeom>
          <a:ln w="0">
            <a:noFill/>
          </a:ln>
        </p:spPr>
      </p:pic>
      <p:pic>
        <p:nvPicPr>
          <p:cNvPr id="1" name="그림 8" descr=""/>
          <p:cNvPicPr/>
          <p:nvPr/>
        </p:nvPicPr>
        <p:blipFill>
          <a:blip r:embed="rId3"/>
          <a:stretch/>
        </p:blipFill>
        <p:spPr>
          <a:xfrm>
            <a:off x="-3240" y="6049800"/>
            <a:ext cx="9909360" cy="808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7"/>
          <p:cNvSpPr/>
          <p:nvPr/>
        </p:nvSpPr>
        <p:spPr>
          <a:xfrm>
            <a:off x="178560" y="6661800"/>
            <a:ext cx="3065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  <a:ea typeface="굴림"/>
              </a:rPr>
              <a:t>2015 KNS Autumn Meeting, Kyungju, Oct. 28-30, 2015</a:t>
            </a:r>
            <a:endParaRPr b="1" lang="en-US" sz="1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9" name="Text Box 5"/>
          <p:cNvSpPr/>
          <p:nvPr/>
        </p:nvSpPr>
        <p:spPr>
          <a:xfrm>
            <a:off x="9365400" y="6651720"/>
            <a:ext cx="695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475E9FB0-EA42-43A8-A884-A34170D41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90520" y="136440"/>
            <a:ext cx="9329760" cy="55584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1260"/>
                </a:solidFill>
                <a:latin typeface="HY헤드라인M"/>
              </a:rPr>
              <a:t>Click to edit the title text format</a:t>
            </a:r>
            <a:endParaRPr b="0" lang="en-US" sz="3000" spc="-1" strike="noStrike">
              <a:solidFill>
                <a:srgbClr val="101260"/>
              </a:solidFill>
              <a:latin typeface="HY헤드라인M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235080" y="981000"/>
            <a:ext cx="4681800" cy="5564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227160" indent="-227160">
              <a:spcBef>
                <a:spcPts val="1576"/>
              </a:spcBef>
              <a:spcAft>
                <a:spcPts val="451"/>
              </a:spcAft>
              <a:buClr>
                <a:srgbClr val="31319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79640">
              <a:spcBef>
                <a:spcPts val="1576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79280">
              <a:spcBef>
                <a:spcPts val="1576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58920" indent="-179280">
              <a:spcBef>
                <a:spcPts val="1576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16040" indent="-177840">
              <a:spcBef>
                <a:spcPts val="1576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616040" indent="-177840">
              <a:spcBef>
                <a:spcPts val="1576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616040" indent="-177840">
              <a:spcBef>
                <a:spcPts val="1576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12"/>
          <p:cNvSpPr/>
          <p:nvPr/>
        </p:nvSpPr>
        <p:spPr>
          <a:xfrm>
            <a:off x="272880" y="728640"/>
            <a:ext cx="9347400" cy="0"/>
          </a:xfrm>
          <a:prstGeom prst="line">
            <a:avLst/>
          </a:prstGeom>
          <a:ln w="38160">
            <a:solidFill>
              <a:srgbClr val="101260">
                <a:alpha val="2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43" name="Picture 3" descr="C:\Sejong\UI_영문.jpg"/>
          <p:cNvPicPr/>
          <p:nvPr/>
        </p:nvPicPr>
        <p:blipFill>
          <a:blip r:embed="rId2"/>
          <a:stretch/>
        </p:blipFill>
        <p:spPr>
          <a:xfrm>
            <a:off x="8048520" y="6632640"/>
            <a:ext cx="1398600" cy="204840"/>
          </a:xfrm>
          <a:prstGeom prst="rect">
            <a:avLst/>
          </a:prstGeom>
          <a:ln w="0">
            <a:noFill/>
          </a:ln>
        </p:spPr>
      </p:pic>
      <p:sp>
        <p:nvSpPr>
          <p:cNvPr id="44" name="Line 12"/>
          <p:cNvSpPr/>
          <p:nvPr/>
        </p:nvSpPr>
        <p:spPr>
          <a:xfrm>
            <a:off x="128520" y="6607080"/>
            <a:ext cx="9640800" cy="0"/>
          </a:xfrm>
          <a:prstGeom prst="line">
            <a:avLst/>
          </a:prstGeom>
          <a:ln w="19080">
            <a:solidFill>
              <a:srgbClr val="101260">
                <a:alpha val="2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668160" y="1592280"/>
            <a:ext cx="55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101260"/>
                </a:solidFill>
                <a:latin typeface="Arial"/>
                <a:ea typeface="Arial Unicode MS"/>
              </a:rPr>
              <a:t>소듐냉각고속로</a:t>
            </a:r>
            <a:r>
              <a:rPr b="1" lang="en-US" sz="2800" spc="-1" strike="noStrike">
                <a:solidFill>
                  <a:srgbClr val="101260"/>
                </a:solidFill>
                <a:latin typeface="Arial"/>
                <a:ea typeface="Arial Unicode MS"/>
              </a:rPr>
              <a:t>(SFR)</a:t>
            </a:r>
            <a:r>
              <a:rPr b="1" lang="ko-KR" sz="2800" spc="-1" strike="noStrike">
                <a:solidFill>
                  <a:srgbClr val="101260"/>
                </a:solidFill>
                <a:latin typeface="Arial"/>
                <a:ea typeface="Arial Unicode MS"/>
              </a:rPr>
              <a:t>와 경수로의 인허가성 비교</a:t>
            </a:r>
            <a:endParaRPr b="1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584440" y="3807000"/>
            <a:ext cx="19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1260"/>
                </a:solidFill>
                <a:latin typeface="Arial Unicode MS"/>
                <a:ea typeface="Arial Unicode MS"/>
              </a:rPr>
              <a:t>2015. 10. 28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2432160" y="4702320"/>
            <a:ext cx="19256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101260"/>
                </a:solidFill>
                <a:latin typeface="Arial Unicode MS"/>
                <a:ea typeface="Arial Unicode MS"/>
              </a:rPr>
              <a:t>세종대학교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1260"/>
                </a:solidFill>
                <a:latin typeface="Arial Unicode MS"/>
                <a:ea typeface="Arial Unicode M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01260"/>
                </a:solidFill>
                <a:latin typeface="Arial Unicode MS"/>
                <a:ea typeface="Arial Unicode MS"/>
              </a:rPr>
              <a:t>정 해 용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668160" y="2658960"/>
            <a:ext cx="433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1260"/>
                </a:solidFill>
                <a:latin typeface="Arial Unicode MS"/>
                <a:ea typeface="Arial Unicode MS"/>
              </a:rPr>
              <a:t>2015 </a:t>
            </a:r>
            <a:r>
              <a:rPr b="1" lang="ko-KR" sz="1600" spc="-1" strike="noStrike">
                <a:solidFill>
                  <a:srgbClr val="101260"/>
                </a:solidFill>
                <a:latin typeface="Arial Unicode MS"/>
                <a:ea typeface="Arial Unicode MS"/>
              </a:rPr>
              <a:t>추계 한국원자력학회 </a:t>
            </a:r>
            <a:r>
              <a:rPr b="1" lang="en-US" sz="1600" spc="-1" strike="noStrike">
                <a:solidFill>
                  <a:srgbClr val="101260"/>
                </a:solidFill>
                <a:latin typeface="Arial Unicode MS"/>
                <a:ea typeface="Arial Unicode MS"/>
              </a:rPr>
              <a:t>Workshop</a:t>
            </a:r>
            <a:endParaRPr b="1" lang="en-US" sz="16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90520" y="128520"/>
            <a:ext cx="9329760" cy="55584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01260"/>
                </a:solidFill>
                <a:latin typeface="Arial"/>
              </a:rPr>
              <a:t>ALWR</a:t>
            </a:r>
            <a:r>
              <a:rPr b="1" lang="ko-KR" sz="3000" spc="-1" strike="noStrike">
                <a:solidFill>
                  <a:srgbClr val="10126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101260"/>
                </a:solidFill>
                <a:latin typeface="Arial"/>
              </a:rPr>
              <a:t>NRC DC </a:t>
            </a:r>
            <a:r>
              <a:rPr b="1" lang="ko-KR" sz="3000" spc="-1" strike="noStrike">
                <a:solidFill>
                  <a:srgbClr val="101260"/>
                </a:solidFill>
                <a:latin typeface="Arial"/>
              </a:rPr>
              <a:t>인허가 현안</a:t>
            </a:r>
            <a:endParaRPr b="0" lang="en-US" sz="3000" spc="-1" strike="noStrike">
              <a:solidFill>
                <a:srgbClr val="101260"/>
              </a:solidFill>
              <a:latin typeface="HY헤드라인M"/>
            </a:endParaRPr>
          </a:p>
        </p:txBody>
      </p:sp>
      <p:sp>
        <p:nvSpPr>
          <p:cNvPr id="201" name="AutoShape 22"/>
          <p:cNvSpPr/>
          <p:nvPr/>
        </p:nvSpPr>
        <p:spPr>
          <a:xfrm>
            <a:off x="415800" y="836640"/>
            <a:ext cx="5149800" cy="431640"/>
          </a:xfrm>
          <a:prstGeom prst="roundRect">
            <a:avLst>
              <a:gd name="adj" fmla="val 38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10126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1260"/>
                </a:solidFill>
                <a:latin typeface="Arial"/>
              </a:rPr>
              <a:t> </a:t>
            </a:r>
            <a:r>
              <a:rPr b="1" lang="ko-KR" sz="2000" spc="-1" strike="noStrike">
                <a:solidFill>
                  <a:srgbClr val="101260"/>
                </a:solidFill>
                <a:latin typeface="Arial"/>
              </a:rPr>
              <a:t>대상 노형 </a:t>
            </a:r>
            <a:r>
              <a:rPr b="1" lang="en-US" sz="2000" spc="-1" strike="noStrike">
                <a:solidFill>
                  <a:srgbClr val="101260"/>
                </a:solidFill>
                <a:latin typeface="Arial"/>
              </a:rPr>
              <a:t>: AP1000, US-EPR, US-APWR</a:t>
            </a:r>
            <a:r>
              <a:rPr b="1" lang="ko-KR" sz="2000" spc="-1" strike="noStrike">
                <a:solidFill>
                  <a:srgbClr val="10126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406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406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849240" y="1303200"/>
          <a:ext cx="8317080" cy="4789800"/>
        </p:xfrm>
        <a:graphic>
          <a:graphicData uri="http://schemas.openxmlformats.org/drawingml/2006/table">
            <a:tbl>
              <a:tblPr/>
              <a:tblGrid>
                <a:gridCol w="2844720"/>
                <a:gridCol w="3956040"/>
                <a:gridCol w="1516320"/>
              </a:tblGrid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기술 현안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내용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주 대상 노형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주증기배관 </a:t>
                      </a:r>
                      <a:r>
                        <a:rPr b="0" lang="en-US" sz="1400" spc="-1" strike="noStrike">
                          <a:solidFill>
                            <a:srgbClr val="251eae"/>
                          </a:solidFill>
                          <a:latin typeface="HY헤드라인M"/>
                        </a:rPr>
                        <a:t>LBB </a:t>
                      </a:r>
                      <a:r>
                        <a:rPr b="0" lang="ko-KR" sz="1400" spc="-1" strike="noStrike">
                          <a:solidFill>
                            <a:srgbClr val="251eae"/>
                          </a:solidFill>
                          <a:latin typeface="HY헤드라인M"/>
                        </a:rPr>
                        <a:t>적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SG-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격납건물 관통부 사이 배관 대상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배관 형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재료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및 하중 등 세부 자료를 바탕으로 수행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AP1000, EPR, APWR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251eae"/>
                          </a:solidFill>
                          <a:latin typeface="HY헤드라인M"/>
                        </a:rPr>
                        <a:t>제어봉 구동장치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재해영향과 내구성분석에 적용한 구조 및 내진설계방법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수명 요건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안전기능 수행 관련 요건의 적합성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APWR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원전 </a:t>
                      </a:r>
                      <a:r>
                        <a:rPr b="0" lang="ko-KR" sz="1400" spc="-1" strike="noStrike">
                          <a:solidFill>
                            <a:srgbClr val="251eae"/>
                          </a:solidFill>
                          <a:latin typeface="HY헤드라인M"/>
                        </a:rPr>
                        <a:t>신연료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적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핵연료집합체의 구조적 및 기계적 안전성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핵연료의 방사선 조사에 따른 재료적 안정성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핵연료 제조시 불확실성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펠렛간 농축도 차이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피복재 두께 차이 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APWR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593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격납건물내 </a:t>
                      </a:r>
                      <a:r>
                        <a:rPr b="0" lang="ko-KR" sz="1400" spc="-1" strike="noStrike">
                          <a:solidFill>
                            <a:srgbClr val="251eae"/>
                          </a:solidFill>
                          <a:latin typeface="HY헤드라인M"/>
                        </a:rPr>
                        <a:t>가연성기체 제어능력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수소제어설비의 내진 등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전원공급설비의 안전등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기기생존성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수소제어분석 방법론 및 사용 전산코드의 적용성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AP1000, EPR, APWR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ECCS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피동여과장치 막힘 현상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섬유질 보온재에 의한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ECCS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흡입부 수두손실 유발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도장재 파편 등 이물질에 의한 집수조 흡입관 막힘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평가방법론의 보수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여과기 성능시험 방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파편 생성원 관리 방안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AP1000, EPR, APWR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595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251eae"/>
                          </a:solidFill>
                          <a:latin typeface="HY헤드라인M"/>
                        </a:rPr>
                        <a:t>피동안전설비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 설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피동안전계통 단독에 의한 안전기능 수행 여부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피동안전계통에 의한 안전정지 달성 여부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주제어반 내 보호를 위한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HVAC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보장성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AP1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26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범용소프트웨어 제어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모니터 상 해당 소프트웨어 안전계통 제어 확인 및 검증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제어기 개발 방법의 규제요건 만족 여부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AP1000, EPR, APWR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26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251eae"/>
                          </a:solidFill>
                          <a:latin typeface="HY헤드라인M"/>
                        </a:rPr>
                        <a:t>사이버 보안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악성 코드 및 바이러스 침해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해킹 등에 대한 보안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I&amp;C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설비의 보안 및 외부 침입 대비 방안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APWR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203" name="TextBox 5"/>
          <p:cNvSpPr/>
          <p:nvPr/>
        </p:nvSpPr>
        <p:spPr>
          <a:xfrm>
            <a:off x="3978360" y="6273720"/>
            <a:ext cx="540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Arial"/>
              </a:rPr>
              <a:t>출처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: KINS/HR-1066 </a:t>
            </a: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Arial"/>
              </a:rPr>
              <a:t>해외 신형원자로 표준설계 인허가 동향 및 현안 분석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, 2010</a:t>
            </a:r>
            <a:endParaRPr b="1" lang="en-US" sz="11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90520" y="128520"/>
            <a:ext cx="9329760" cy="55584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1260"/>
                </a:solidFill>
                <a:latin typeface="Arial"/>
              </a:rPr>
              <a:t>신형원자로 </a:t>
            </a:r>
            <a:r>
              <a:rPr b="1" lang="en-US" sz="3000" spc="-1" strike="noStrike">
                <a:solidFill>
                  <a:srgbClr val="101260"/>
                </a:solidFill>
                <a:latin typeface="Arial"/>
              </a:rPr>
              <a:t>NRC DC </a:t>
            </a:r>
            <a:r>
              <a:rPr b="1" lang="ko-KR" sz="3000" spc="-1" strike="noStrike">
                <a:solidFill>
                  <a:srgbClr val="101260"/>
                </a:solidFill>
                <a:latin typeface="Arial"/>
              </a:rPr>
              <a:t>인허가 현안 </a:t>
            </a:r>
            <a:r>
              <a:rPr b="1" lang="en-US" sz="3000" spc="-1" strike="noStrike">
                <a:solidFill>
                  <a:srgbClr val="101260"/>
                </a:solidFill>
                <a:latin typeface="Arial"/>
              </a:rPr>
              <a:t>(</a:t>
            </a:r>
            <a:r>
              <a:rPr b="1" lang="ko-KR" sz="3000" spc="-1" strike="noStrike">
                <a:solidFill>
                  <a:srgbClr val="101260"/>
                </a:solidFill>
                <a:latin typeface="Arial"/>
              </a:rPr>
              <a:t>계속</a:t>
            </a:r>
            <a:r>
              <a:rPr b="1" lang="en-US" sz="3000" spc="-1" strike="noStrike">
                <a:solidFill>
                  <a:srgbClr val="10126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101260"/>
              </a:solidFill>
              <a:latin typeface="HY헤드라인M"/>
            </a:endParaRPr>
          </a:p>
        </p:txBody>
      </p:sp>
      <p:sp>
        <p:nvSpPr>
          <p:cNvPr id="205" name="AutoShape 22"/>
          <p:cNvSpPr/>
          <p:nvPr/>
        </p:nvSpPr>
        <p:spPr>
          <a:xfrm>
            <a:off x="415800" y="836640"/>
            <a:ext cx="5149800" cy="431640"/>
          </a:xfrm>
          <a:prstGeom prst="roundRect">
            <a:avLst>
              <a:gd name="adj" fmla="val 38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10126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1260"/>
                </a:solidFill>
                <a:latin typeface="Arial"/>
              </a:rPr>
              <a:t> </a:t>
            </a:r>
            <a:r>
              <a:rPr b="1" lang="ko-KR" sz="2000" spc="-1" strike="noStrike">
                <a:solidFill>
                  <a:srgbClr val="101260"/>
                </a:solidFill>
                <a:latin typeface="Arial"/>
              </a:rPr>
              <a:t>대상 노형 </a:t>
            </a:r>
            <a:r>
              <a:rPr b="1" lang="en-US" sz="2000" spc="-1" strike="noStrike">
                <a:solidFill>
                  <a:srgbClr val="101260"/>
                </a:solidFill>
                <a:latin typeface="Arial"/>
              </a:rPr>
              <a:t>: AP1000, US-EPR, US-APWR</a:t>
            </a:r>
            <a:r>
              <a:rPr b="1" lang="ko-KR" sz="2000" spc="-1" strike="noStrike">
                <a:solidFill>
                  <a:srgbClr val="10126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406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406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849240" y="1295280"/>
          <a:ext cx="8317080" cy="4735800"/>
        </p:xfrm>
        <a:graphic>
          <a:graphicData uri="http://schemas.openxmlformats.org/drawingml/2006/table">
            <a:tbl>
              <a:tblPr/>
              <a:tblGrid>
                <a:gridCol w="2844720"/>
                <a:gridCol w="3956040"/>
                <a:gridCol w="15163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기술 현안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내용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대상 노형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계측제어설비 통신 독립성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안전계통 간 및 안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비안전계통 간 통신 독립성 확보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통신용 케이블 및 광 접속 모듈 격리 기기 검증 방법 등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EPR, APWR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593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디지털제어계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Teleperm XS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장비의 안전등급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I&amp;C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독립성 및 물리적 격리 요건 부합성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인허가된 설계 형상과 사용 부품 목록 유지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EPR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방사선 감시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방사선감시기의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RCS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누설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검출 성능 만족 여부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AP1000, EPR, APWR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26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안전제어반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안전제어반 컴퓨터 시스템과 소프트웨어 기능 및 논리 격리요건 만족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APWR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763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인간공학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Visual Display Unit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상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Touch screen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스위치 조작에 의한 제어 검증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화면 표시 장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제어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경보 표시기 설계기준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자동운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화상 통신 설계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APWR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594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51eae"/>
                          </a:solidFill>
                          <a:latin typeface="HY헤드라인M"/>
                        </a:rPr>
                        <a:t>PS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피동안전계통의 열수력 불확실성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디지털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I&amp;C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계통 모델링 및 소프트웨어 신뢰도 모델링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CCF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디지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I&amp;C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격실 냉각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고장 검출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AP1000, APWR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761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251eae"/>
                          </a:solidFill>
                          <a:latin typeface="HY헤드라인M"/>
                        </a:rPr>
                        <a:t>중대사고</a:t>
                      </a:r>
                      <a:r>
                        <a:rPr b="0" lang="en-US" sz="1400" spc="-1" strike="noStrike">
                          <a:solidFill>
                            <a:srgbClr val="251eae"/>
                          </a:solidFill>
                          <a:latin typeface="HY헤드라인M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251eae"/>
                          </a:solidFill>
                          <a:latin typeface="HY헤드라인M"/>
                        </a:rPr>
                        <a:t>대처능력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원자로용기 외벽냉각을 위한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RCS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감압 및 원자로공동 충수 달성 가능성 및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Vessel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건전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노심용융물 냉각성 관련 설계 및 용융물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-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콘크리트 반응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고압용융물방출 및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DCH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방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위한 감압 및 구조 설계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AP1000, EPR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26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251eae"/>
                          </a:solidFill>
                          <a:latin typeface="HY헤드라인M"/>
                        </a:rPr>
                        <a:t>항공기 충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항공기충돌 시 노심냉각능력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격납건물 건전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사용후연료 냉각 능력 및 저장조 건전성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207" name="TextBox 5"/>
          <p:cNvSpPr/>
          <p:nvPr/>
        </p:nvSpPr>
        <p:spPr>
          <a:xfrm>
            <a:off x="3978360" y="6058080"/>
            <a:ext cx="540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Arial"/>
              </a:rPr>
              <a:t>출처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: KINS/HR-1066 </a:t>
            </a: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Arial"/>
              </a:rPr>
              <a:t>해외 신형원자로 표준설계 인허가 동향 및 현안 분석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, 2010</a:t>
            </a:r>
            <a:endParaRPr b="1" lang="en-US" sz="11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90520" y="128520"/>
            <a:ext cx="9329760" cy="55584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01260"/>
                </a:solidFill>
                <a:latin typeface="Arial"/>
              </a:rPr>
              <a:t>APR1400 Gap Analysis</a:t>
            </a:r>
            <a:endParaRPr b="0" lang="en-US" sz="3000" spc="-1" strike="noStrike">
              <a:solidFill>
                <a:srgbClr val="101260"/>
              </a:solidFill>
              <a:latin typeface="HY헤드라인M"/>
            </a:endParaRPr>
          </a:p>
        </p:txBody>
      </p:sp>
      <p:sp>
        <p:nvSpPr>
          <p:cNvPr id="209" name="AutoShape 22"/>
          <p:cNvSpPr/>
          <p:nvPr/>
        </p:nvSpPr>
        <p:spPr>
          <a:xfrm>
            <a:off x="415800" y="836640"/>
            <a:ext cx="5149800" cy="431640"/>
          </a:xfrm>
          <a:prstGeom prst="roundRect">
            <a:avLst>
              <a:gd name="adj" fmla="val 38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10126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1260"/>
                </a:solidFill>
                <a:latin typeface="Arial"/>
              </a:rPr>
              <a:t> </a:t>
            </a:r>
            <a:r>
              <a:rPr b="1" lang="ko-KR" sz="2000" spc="-1" strike="noStrike">
                <a:solidFill>
                  <a:srgbClr val="101260"/>
                </a:solidFill>
                <a:latin typeface="Arial"/>
              </a:rPr>
              <a:t>설계 수준과 </a:t>
            </a:r>
            <a:r>
              <a:rPr b="1" lang="en-US" sz="2000" spc="-1" strike="noStrike">
                <a:solidFill>
                  <a:srgbClr val="101260"/>
                </a:solidFill>
                <a:latin typeface="Arial"/>
              </a:rPr>
              <a:t>NRC </a:t>
            </a:r>
            <a:r>
              <a:rPr b="1" lang="ko-KR" sz="2000" spc="-1" strike="noStrike">
                <a:solidFill>
                  <a:srgbClr val="101260"/>
                </a:solidFill>
                <a:latin typeface="Arial"/>
              </a:rPr>
              <a:t>요건 차이 분석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812880" y="1434960"/>
          <a:ext cx="8502480" cy="4942080"/>
        </p:xfrm>
        <a:graphic>
          <a:graphicData uri="http://schemas.openxmlformats.org/drawingml/2006/table">
            <a:tbl>
              <a:tblPr/>
              <a:tblGrid>
                <a:gridCol w="1336680"/>
                <a:gridCol w="1728720"/>
                <a:gridCol w="1655640"/>
                <a:gridCol w="3781440"/>
              </a:tblGrid>
              <a:tr h="322200"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분야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보완설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신규 해석방법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비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항공기충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10CFR50.15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내진 설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내진 신규요건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080"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전기분야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4-Trai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760"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포괄부지요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미국 시장 반영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920"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단일호기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G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미국 시장 반영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핵연료건전성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소성 영향 분석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노심설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핵연료 피복재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: ZIRL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안전해석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GSI-191/LOCA/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반응도삽입사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기계설계분야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환경피로해석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PR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ASME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방법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080"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유체계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누설요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(RG14.5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I&amp;C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15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개 신규요건발행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080"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인간공학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신규요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방사선방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NRC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기준 재설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080"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ITAAC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●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신규작성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RG 1.206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요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DCD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●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신규작성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16560" bIns="1656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RG 1.206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요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59400" marR="594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90520" y="128520"/>
            <a:ext cx="9329760" cy="55584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1260"/>
                </a:solidFill>
                <a:latin typeface="Arial"/>
              </a:rPr>
              <a:t>소듐냉각로 기술현안</a:t>
            </a:r>
            <a:endParaRPr b="0" lang="en-US" sz="3000" spc="-1" strike="noStrike">
              <a:solidFill>
                <a:srgbClr val="101260"/>
              </a:solidFill>
              <a:latin typeface="HY헤드라인M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281240" y="1227240"/>
          <a:ext cx="7513560" cy="4638600"/>
        </p:xfrm>
        <a:graphic>
          <a:graphicData uri="http://schemas.openxmlformats.org/drawingml/2006/table">
            <a:tbl>
              <a:tblPr/>
              <a:tblGrid>
                <a:gridCol w="637920"/>
                <a:gridCol w="2664000"/>
                <a:gridCol w="42116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번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항목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내용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일차소듐냉각재 열유동 현상 평가 및 영향 고려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일차소듐냉각재 슬로싱 영향 고려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원자로 내부구조물 동적 열하중의 설계고려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일차열전달계통 비정상 열유동 현상 평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518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핵연료집합체 유동막힘 대책 수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73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원자로시설 재료 열화 및 건전성 평가 고려 사항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원자로용기 고온응력부식 방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원자로용기 소듐 유동환경 하에서의 재료 열화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격납용기 재료 건전성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설계기준사고 선정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DBE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와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BDBE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구분 방법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DBE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선정 방법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사고 선원항의 적절성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45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안전에 중요한 구조물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,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계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및 기기의 가동중 검사 및 시험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원자로용기 가동중 검사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원자로 내부구조물 가동중 검사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일차열전달계통의 가동중 검사 및 시험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중간열전달계통 가동중 검사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부적절한 노심냉각 조건 탐지 및 회복을 위한 계측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213" name="TextBox 3"/>
          <p:cNvSpPr/>
          <p:nvPr/>
        </p:nvSpPr>
        <p:spPr>
          <a:xfrm>
            <a:off x="4881600" y="5964120"/>
            <a:ext cx="41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Arial"/>
              </a:rPr>
              <a:t>출처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: KINS/RR-830 </a:t>
            </a: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Arial"/>
              </a:rPr>
              <a:t>소듐냉각고속로 인허가 기술개발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, 2011</a:t>
            </a:r>
            <a:endParaRPr b="1" lang="en-US" sz="11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90520" y="128520"/>
            <a:ext cx="9329760" cy="55584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1260"/>
                </a:solidFill>
                <a:latin typeface="Arial"/>
              </a:rPr>
              <a:t>소듐냉각로 기술현안 </a:t>
            </a:r>
            <a:r>
              <a:rPr b="1" lang="en-US" sz="3000" spc="-1" strike="noStrike">
                <a:solidFill>
                  <a:srgbClr val="101260"/>
                </a:solidFill>
                <a:latin typeface="Arial"/>
              </a:rPr>
              <a:t>(</a:t>
            </a:r>
            <a:r>
              <a:rPr b="1" lang="ko-KR" sz="3000" spc="-1" strike="noStrike">
                <a:solidFill>
                  <a:srgbClr val="101260"/>
                </a:solidFill>
                <a:latin typeface="Arial"/>
              </a:rPr>
              <a:t>계속</a:t>
            </a:r>
            <a:r>
              <a:rPr b="1" lang="en-US" sz="3000" spc="-1" strike="noStrike">
                <a:solidFill>
                  <a:srgbClr val="10126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101260"/>
              </a:solidFill>
              <a:latin typeface="HY헤드라인M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352520" y="907920"/>
          <a:ext cx="7515360" cy="5193000"/>
        </p:xfrm>
        <a:graphic>
          <a:graphicData uri="http://schemas.openxmlformats.org/drawingml/2006/table">
            <a:tbl>
              <a:tblPr/>
              <a:tblGrid>
                <a:gridCol w="638280"/>
                <a:gridCol w="2663640"/>
                <a:gridCol w="42134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번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항목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내용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증기발생기 건물 내진 설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4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중대사고 개념설계 고려사항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소듐공동 발생시 노물리 계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양의 공동 반응도가에 의한 중대사고 발생 가능성 평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중대사고 방지 대책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505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실증시험 계획수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연소도에 따른 심재 거동 특성 확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핵연료 설계 제한치 및 손상 한계치 설정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저속 과출력 과도 상태시 핵연료계통 거동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각종 반응도계수의 검증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열유동 해석 방법론 입증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원자로 내부 자연순환 냉각 적절성 입증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최종정지계통 작동시 노심집합체 건전성 영향 평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제어봉 구조재료 성능 보장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고착 제어봉 강제 구동에 따른 핵연료 손상 가능성 평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고유반응도 궤환의 적절성 검증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연소도에 따른 반응도 변화 확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소듐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-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물 반응 압력방출계통 성능 및 신뢰성 입증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원자로보호계통 격리 설계의 적절성 입증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216" name="TextBox 3"/>
          <p:cNvSpPr/>
          <p:nvPr/>
        </p:nvSpPr>
        <p:spPr>
          <a:xfrm>
            <a:off x="4950000" y="6194520"/>
            <a:ext cx="41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Arial"/>
              </a:rPr>
              <a:t>출처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: KINS/RR-830 </a:t>
            </a: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Arial"/>
              </a:rPr>
              <a:t>소듐냉각고속로 인허가 기술개발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, 2011</a:t>
            </a:r>
            <a:endParaRPr b="1" lang="en-US" sz="11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90520" y="128520"/>
            <a:ext cx="9329760" cy="55584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01260"/>
                </a:solidFill>
                <a:latin typeface="Arial"/>
              </a:rPr>
              <a:t>Gap Analysis Results</a:t>
            </a:r>
            <a:endParaRPr b="0" lang="en-US" sz="3000" spc="-1" strike="noStrike">
              <a:solidFill>
                <a:srgbClr val="101260"/>
              </a:solidFill>
              <a:latin typeface="HY헤드라인M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812880" y="1433520"/>
          <a:ext cx="7993080" cy="4548240"/>
        </p:xfrm>
        <a:graphic>
          <a:graphicData uri="http://schemas.openxmlformats.org/drawingml/2006/table">
            <a:tbl>
              <a:tblPr/>
              <a:tblGrid>
                <a:gridCol w="2305080"/>
                <a:gridCol w="3743280"/>
                <a:gridCol w="973080"/>
                <a:gridCol w="971640"/>
              </a:tblGrid>
              <a:tr h="728280">
                <a:tc>
                  <a:txBody>
                    <a:bodyPr tIns="44280" bIns="442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Topic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tIns="44280" bIns="442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Gap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tIns="44280" bIns="442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Databas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tIns="44280" bIns="442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Ability to mode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515160">
                <a:tc>
                  <a:txBody>
                    <a:bodyPr tIns="44280" bIns="4428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Steady state intact fuel and fuel chang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tIns="44280" bIns="4428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End-of-life(EOL) fuel composi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EOL prediction of reactivity feedbac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tIns="44280" bIns="442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tIns="44280" bIns="442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515160">
                <a:tc>
                  <a:txBody>
                    <a:bodyPr tIns="44280" bIns="4428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Transition to natural convection cool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tIns="44280" bIns="4428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Sodium stratifica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tIns="44280" bIns="442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H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tIns="44280" bIns="442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515160">
                <a:tc>
                  <a:txBody>
                    <a:bodyPr tIns="44280" bIns="4428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Thermal response of structur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tIns="44280" bIns="4428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Thermal strip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tIns="44280" bIns="442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tIns="44280" bIns="442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H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02040">
                <a:tc>
                  <a:txBody>
                    <a:bodyPr tIns="44280" bIns="4428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Decay heat rejec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tIns="44280" bIns="4428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Radiation heat transfer from vessel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tIns="44280" bIns="442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tIns="44280" bIns="442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H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515160">
                <a:tc>
                  <a:txBody>
                    <a:bodyPr tIns="44280" bIns="4428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Power conversion cycl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tIns="44280" bIns="4428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CO2-Sodium chemical interac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CO2 release and impac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tIns="44280" bIns="442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tIns="44280" bIns="442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41400">
                <a:tc>
                  <a:txBody>
                    <a:bodyPr tIns="44280" bIns="4428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Fuel transient behavio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tIns="44280" bIns="4428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Length effects on fuel performance during transient for metallic fue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High minor actinide content fuel performanc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tIns="44280" bIns="442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tIns="44280" bIns="442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H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515160">
                <a:tc>
                  <a:txBody>
                    <a:bodyPr tIns="44280" bIns="4428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Severe core damag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tIns="44280" bIns="4428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Fuel motion, dispersal, and morphology for metallic fue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tIns="44280" bIns="442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tIns="44280" bIns="442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219" name="AutoShape 22"/>
          <p:cNvSpPr/>
          <p:nvPr/>
        </p:nvSpPr>
        <p:spPr>
          <a:xfrm>
            <a:off x="415800" y="836640"/>
            <a:ext cx="4997520" cy="431640"/>
          </a:xfrm>
          <a:prstGeom prst="roundRect">
            <a:avLst>
              <a:gd name="adj" fmla="val 38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10126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126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101260"/>
                </a:solidFill>
                <a:latin typeface="Arial"/>
              </a:rPr>
              <a:t>Accident Initiator/Sequence</a:t>
            </a:r>
            <a:r>
              <a:rPr b="1" lang="ko-KR" sz="2000" spc="-1" strike="noStrike">
                <a:solidFill>
                  <a:srgbClr val="10126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406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406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20" name="TextBox 4"/>
          <p:cNvSpPr/>
          <p:nvPr/>
        </p:nvSpPr>
        <p:spPr>
          <a:xfrm>
            <a:off x="4916520" y="5950080"/>
            <a:ext cx="4140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Arial"/>
              </a:rPr>
              <a:t>출처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: Sodium Fast Reactor Safety and Licensing Research Plan, SAND2012-4260, May 2012</a:t>
            </a:r>
            <a:endParaRPr b="1" lang="en-US" sz="11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90520" y="128520"/>
            <a:ext cx="9329760" cy="55584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01260"/>
                </a:solidFill>
                <a:latin typeface="Arial"/>
              </a:rPr>
              <a:t>Gap Analysis Results (cont.)</a:t>
            </a:r>
            <a:endParaRPr b="0" lang="en-US" sz="3000" spc="-1" strike="noStrike">
              <a:solidFill>
                <a:srgbClr val="101260"/>
              </a:solidFill>
              <a:latin typeface="HY헤드라인M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812880" y="1433520"/>
          <a:ext cx="7993080" cy="4632480"/>
        </p:xfrm>
        <a:graphic>
          <a:graphicData uri="http://schemas.openxmlformats.org/drawingml/2006/table">
            <a:tbl>
              <a:tblPr/>
              <a:tblGrid>
                <a:gridCol w="2124000"/>
                <a:gridCol w="3924360"/>
                <a:gridCol w="973080"/>
                <a:gridCol w="971640"/>
              </a:tblGrid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Topic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Gap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Databas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Ability to mode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436120"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Sodium Spray Dynamic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Single drop particle average siz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Single drop patricle size distribu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Pre-ignition phase dynamic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Basic evaporation and combus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Crust formation on droplet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Source of sodium aeroso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Model radiation transfer with/from aerosol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Inertial impact of molten sodiu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Burning of droplets on surface of a sodium poo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H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Sodium-Fluid Interaction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High pressure fluid jet leak into sodium in heat exchange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Sodium surface pool fire on an Inert Substrat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Radiation net heat flux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Mass burning rat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Oxide crust behavior on pool substrat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Near-surface aerosol size/distribu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Surface aerosol produc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H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H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223" name="AutoShape 22"/>
          <p:cNvSpPr/>
          <p:nvPr/>
        </p:nvSpPr>
        <p:spPr>
          <a:xfrm>
            <a:off x="415800" y="836640"/>
            <a:ext cx="4997520" cy="431640"/>
          </a:xfrm>
          <a:prstGeom prst="roundRect">
            <a:avLst>
              <a:gd name="adj" fmla="val 38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10126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126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101260"/>
                </a:solidFill>
                <a:latin typeface="Arial"/>
              </a:rPr>
              <a:t>Sodium Technology</a:t>
            </a:r>
            <a:r>
              <a:rPr b="1" lang="ko-KR" sz="2000" spc="-1" strike="noStrike">
                <a:solidFill>
                  <a:srgbClr val="10126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406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406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4916520" y="6094440"/>
            <a:ext cx="4140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Arial"/>
              </a:rPr>
              <a:t>출처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: Sodium Fast Reactor Safety and Licensing Research Plan, SAND2012-4260, May 2012</a:t>
            </a:r>
            <a:endParaRPr b="1" lang="en-US" sz="11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90520" y="128520"/>
            <a:ext cx="9329760" cy="55584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01260"/>
                </a:solidFill>
                <a:latin typeface="Arial"/>
              </a:rPr>
              <a:t>Gap Analysis Results (cont.)</a:t>
            </a:r>
            <a:endParaRPr b="0" lang="en-US" sz="3000" spc="-1" strike="noStrike">
              <a:solidFill>
                <a:srgbClr val="101260"/>
              </a:solidFill>
              <a:latin typeface="HY헤드라인M"/>
            </a:endParaRPr>
          </a:p>
        </p:txBody>
      </p:sp>
      <p:sp>
        <p:nvSpPr>
          <p:cNvPr id="226" name="AutoShape 22"/>
          <p:cNvSpPr/>
          <p:nvPr/>
        </p:nvSpPr>
        <p:spPr>
          <a:xfrm>
            <a:off x="415800" y="836640"/>
            <a:ext cx="4997520" cy="431640"/>
          </a:xfrm>
          <a:prstGeom prst="roundRect">
            <a:avLst>
              <a:gd name="adj" fmla="val 38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10126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126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101260"/>
                </a:solidFill>
                <a:latin typeface="Arial"/>
              </a:rPr>
              <a:t>Fuel and Materials</a:t>
            </a:r>
            <a:r>
              <a:rPr b="1" lang="ko-KR" sz="2000" spc="-1" strike="noStrike">
                <a:solidFill>
                  <a:srgbClr val="10126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406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406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4881600" y="6165720"/>
            <a:ext cx="4140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Arial"/>
              </a:rPr>
              <a:t>출처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: Sodium Fast Reactor Safety and Licensing Research Plan, SAND2012-4260, May 2012</a:t>
            </a:r>
            <a:endParaRPr b="1" lang="en-US" sz="11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228" name="그림 5" descr=""/>
          <p:cNvPicPr/>
          <p:nvPr/>
        </p:nvPicPr>
        <p:blipFill>
          <a:blip r:embed="rId1"/>
          <a:stretch/>
        </p:blipFill>
        <p:spPr>
          <a:xfrm>
            <a:off x="1047600" y="1276200"/>
            <a:ext cx="7027920" cy="2806920"/>
          </a:xfrm>
          <a:prstGeom prst="rect">
            <a:avLst/>
          </a:prstGeom>
          <a:ln w="0">
            <a:noFill/>
          </a:ln>
        </p:spPr>
      </p:pic>
      <p:pic>
        <p:nvPicPr>
          <p:cNvPr id="229" name="그림 6" descr=""/>
          <p:cNvPicPr/>
          <p:nvPr/>
        </p:nvPicPr>
        <p:blipFill>
          <a:blip r:embed="rId2"/>
          <a:stretch/>
        </p:blipFill>
        <p:spPr>
          <a:xfrm>
            <a:off x="1065240" y="4433760"/>
            <a:ext cx="6912000" cy="176688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22"/>
          <p:cNvSpPr/>
          <p:nvPr/>
        </p:nvSpPr>
        <p:spPr>
          <a:xfrm>
            <a:off x="488880" y="4008600"/>
            <a:ext cx="4997520" cy="431640"/>
          </a:xfrm>
          <a:prstGeom prst="roundRect">
            <a:avLst>
              <a:gd name="adj" fmla="val 38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10126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126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101260"/>
                </a:solidFill>
                <a:latin typeface="Arial"/>
              </a:rPr>
              <a:t>Source term</a:t>
            </a:r>
            <a:r>
              <a:rPr b="1" lang="ko-KR" sz="2000" spc="-1" strike="noStrike">
                <a:solidFill>
                  <a:srgbClr val="10126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406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406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90520" y="128520"/>
            <a:ext cx="9329760" cy="55584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01260"/>
                </a:solidFill>
                <a:latin typeface="Arial"/>
              </a:rPr>
              <a:t>Gap Analysis Results (cont.)</a:t>
            </a:r>
            <a:endParaRPr b="0" lang="en-US" sz="3000" spc="-1" strike="noStrike">
              <a:solidFill>
                <a:srgbClr val="101260"/>
              </a:solidFill>
              <a:latin typeface="HY헤드라인M"/>
            </a:endParaRPr>
          </a:p>
        </p:txBody>
      </p:sp>
      <p:sp>
        <p:nvSpPr>
          <p:cNvPr id="232" name="AutoShape 22"/>
          <p:cNvSpPr/>
          <p:nvPr/>
        </p:nvSpPr>
        <p:spPr>
          <a:xfrm>
            <a:off x="415800" y="836640"/>
            <a:ext cx="4997520" cy="431640"/>
          </a:xfrm>
          <a:prstGeom prst="roundRect">
            <a:avLst>
              <a:gd name="adj" fmla="val 38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10126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126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101260"/>
                </a:solidFill>
                <a:latin typeface="Arial"/>
              </a:rPr>
              <a:t>Code and Mothods</a:t>
            </a:r>
            <a:r>
              <a:rPr b="1" lang="ko-KR" sz="2000" spc="-1" strike="noStrike">
                <a:solidFill>
                  <a:srgbClr val="10126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406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406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33" name="TextBox 4"/>
          <p:cNvSpPr/>
          <p:nvPr/>
        </p:nvSpPr>
        <p:spPr>
          <a:xfrm>
            <a:off x="4881600" y="6165720"/>
            <a:ext cx="4140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Arial"/>
              </a:rPr>
              <a:t>출처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: Sodium Fast Reactor Safety and Licensing Research Plan, SAND2012-4260, May 2012</a:t>
            </a:r>
            <a:endParaRPr b="1" lang="en-US" sz="11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234" name="그림 2" descr=""/>
          <p:cNvPicPr/>
          <p:nvPr/>
        </p:nvPicPr>
        <p:blipFill>
          <a:blip r:embed="rId1"/>
          <a:stretch/>
        </p:blipFill>
        <p:spPr>
          <a:xfrm>
            <a:off x="920880" y="1268280"/>
            <a:ext cx="76136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90520" y="128520"/>
            <a:ext cx="9329760" cy="55584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01260"/>
                </a:solidFill>
                <a:latin typeface="Arial"/>
              </a:rPr>
              <a:t>PGSFR </a:t>
            </a:r>
            <a:r>
              <a:rPr b="1" lang="ko-KR" sz="3000" spc="-1" strike="noStrike">
                <a:solidFill>
                  <a:srgbClr val="101260"/>
                </a:solidFill>
                <a:latin typeface="Arial"/>
              </a:rPr>
              <a:t>예상 인허가 현안</a:t>
            </a:r>
            <a:endParaRPr b="0" lang="en-US" sz="3000" spc="-1" strike="noStrike">
              <a:solidFill>
                <a:srgbClr val="101260"/>
              </a:solidFill>
              <a:latin typeface="HY헤드라인M"/>
            </a:endParaRPr>
          </a:p>
        </p:txBody>
      </p:sp>
      <p:sp>
        <p:nvSpPr>
          <p:cNvPr id="236" name="AutoShape 22"/>
          <p:cNvSpPr/>
          <p:nvPr/>
        </p:nvSpPr>
        <p:spPr>
          <a:xfrm>
            <a:off x="415800" y="1052640"/>
            <a:ext cx="5977080" cy="5244840"/>
          </a:xfrm>
          <a:prstGeom prst="roundRect">
            <a:avLst>
              <a:gd name="adj" fmla="val 3833"/>
            </a:avLst>
          </a:prstGeom>
          <a:noFill/>
          <a:ln w="1908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10126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1260"/>
                </a:solidFill>
                <a:latin typeface="Arial"/>
              </a:rPr>
              <a:t> </a:t>
            </a:r>
            <a:r>
              <a:rPr b="1" lang="ko-KR" sz="2000" spc="-1" strike="noStrike">
                <a:solidFill>
                  <a:srgbClr val="101260"/>
                </a:solidFill>
                <a:latin typeface="Arial"/>
              </a:rPr>
              <a:t>피동냉각 성능 검증 </a:t>
            </a:r>
            <a:r>
              <a:rPr b="1" lang="en-US" sz="2000" spc="-1" strike="noStrike">
                <a:solidFill>
                  <a:srgbClr val="10126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원자로 내부 자연순환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10126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01260"/>
                </a:solidFill>
                <a:latin typeface="Arial"/>
              </a:rPr>
              <a:t>고유안전 특성 입증 </a:t>
            </a:r>
            <a:r>
              <a:rPr b="1" lang="en-US" sz="2000" spc="-1" strike="noStrike">
                <a:solidFill>
                  <a:srgbClr val="10126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반응도궤환 모델 검증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2" marL="1149480" indent="-2858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연소도에 따른 반응도 변화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2" marL="1149480" indent="-2858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Actinide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함유 연료 특성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ATWS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특성 평가 및 중대사고 초기 거동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2" marL="1149480" indent="-2858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용융 금속연료 이동 및 재배치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중대사고 조기 종료 및 대처 능력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10126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01260"/>
                </a:solidFill>
                <a:latin typeface="Arial"/>
              </a:rPr>
              <a:t>핵연료 및 노심재료 건전성  </a:t>
            </a:r>
            <a:r>
              <a:rPr b="1" lang="en-US" sz="2000" spc="-1" strike="noStrike">
                <a:solidFill>
                  <a:srgbClr val="10126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고연소도 핵연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피복재 반응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피복재와 덕트 고온 크립 특성 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37" name="TextBox 7"/>
          <p:cNvSpPr/>
          <p:nvPr/>
        </p:nvSpPr>
        <p:spPr>
          <a:xfrm>
            <a:off x="6405480" y="3313080"/>
            <a:ext cx="347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EBR-II ULOF test&gt;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38" name="TextBox 9"/>
          <p:cNvSpPr/>
          <p:nvPr/>
        </p:nvSpPr>
        <p:spPr>
          <a:xfrm>
            <a:off x="6500880" y="5853240"/>
            <a:ext cx="33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EBR-II ULOHS test&gt;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239" name="_x83377448" descr="EMB00000efc25a4"/>
          <p:cNvPicPr/>
          <p:nvPr/>
        </p:nvPicPr>
        <p:blipFill>
          <a:blip r:embed="rId1"/>
          <a:srcRect l="0" t="10199" r="0" b="0"/>
          <a:stretch/>
        </p:blipFill>
        <p:spPr>
          <a:xfrm>
            <a:off x="6824520" y="1106640"/>
            <a:ext cx="2548080" cy="2206440"/>
          </a:xfrm>
          <a:prstGeom prst="rect">
            <a:avLst/>
          </a:prstGeom>
          <a:ln w="0">
            <a:noFill/>
          </a:ln>
        </p:spPr>
      </p:pic>
      <p:pic>
        <p:nvPicPr>
          <p:cNvPr id="240" name="_x83395304" descr="EMB00000efc25a5"/>
          <p:cNvPicPr/>
          <p:nvPr/>
        </p:nvPicPr>
        <p:blipFill>
          <a:blip r:embed="rId2"/>
          <a:srcRect l="0" t="10284" r="0" b="0"/>
          <a:stretch/>
        </p:blipFill>
        <p:spPr>
          <a:xfrm>
            <a:off x="6816600" y="3681360"/>
            <a:ext cx="25862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90520" y="128520"/>
            <a:ext cx="9329760" cy="55584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1260"/>
                </a:solidFill>
                <a:latin typeface="Arial"/>
              </a:rPr>
              <a:t>목 차</a:t>
            </a:r>
            <a:endParaRPr b="0" lang="en-US" sz="3000" spc="-1" strike="noStrike">
              <a:solidFill>
                <a:srgbClr val="101260"/>
              </a:solidFill>
              <a:latin typeface="HY헤드라인M"/>
            </a:endParaRPr>
          </a:p>
        </p:txBody>
      </p:sp>
      <p:sp>
        <p:nvSpPr>
          <p:cNvPr id="129" name="AutoShape 22"/>
          <p:cNvSpPr/>
          <p:nvPr/>
        </p:nvSpPr>
        <p:spPr>
          <a:xfrm>
            <a:off x="2181240" y="1413000"/>
            <a:ext cx="5219640" cy="3024000"/>
          </a:xfrm>
          <a:prstGeom prst="roundRect">
            <a:avLst>
              <a:gd name="adj" fmla="val 38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514440" indent="-514440">
              <a:lnSpc>
                <a:spcPct val="150000"/>
              </a:lnSpc>
              <a:spcBef>
                <a:spcPts val="1400"/>
              </a:spcBef>
              <a:buClr>
                <a:srgbClr val="10126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101260"/>
                </a:solidFill>
                <a:latin typeface="Arial"/>
              </a:rPr>
              <a:t>인허가 체계 </a:t>
            </a:r>
            <a:endParaRPr b="1" lang="en-US" sz="2800" spc="-1" strike="noStrike">
              <a:solidFill>
                <a:srgbClr val="000000"/>
              </a:solidFill>
              <a:latin typeface="HY헤드라인M"/>
            </a:endParaRPr>
          </a:p>
          <a:p>
            <a:pPr marL="514440" indent="-514440">
              <a:lnSpc>
                <a:spcPct val="150000"/>
              </a:lnSpc>
              <a:spcBef>
                <a:spcPts val="1400"/>
              </a:spcBef>
              <a:buClr>
                <a:srgbClr val="10126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101260"/>
                </a:solidFill>
                <a:latin typeface="Arial"/>
              </a:rPr>
              <a:t>안전 현안</a:t>
            </a:r>
            <a:endParaRPr b="1" lang="en-US" sz="2800" spc="-1" strike="noStrike">
              <a:solidFill>
                <a:srgbClr val="000000"/>
              </a:solidFill>
              <a:latin typeface="HY헤드라인M"/>
            </a:endParaRPr>
          </a:p>
          <a:p>
            <a:pPr marL="514440" indent="-514440">
              <a:lnSpc>
                <a:spcPct val="150000"/>
              </a:lnSpc>
              <a:spcBef>
                <a:spcPts val="1400"/>
              </a:spcBef>
              <a:buClr>
                <a:srgbClr val="10126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1260"/>
                </a:solidFill>
                <a:latin typeface="Arial"/>
              </a:rPr>
              <a:t>PGSFR </a:t>
            </a:r>
            <a:r>
              <a:rPr b="1" lang="ko-KR" sz="2800" spc="-1" strike="noStrike">
                <a:solidFill>
                  <a:srgbClr val="101260"/>
                </a:solidFill>
                <a:latin typeface="Arial"/>
              </a:rPr>
              <a:t>인허가성</a:t>
            </a:r>
            <a:endParaRPr b="1" lang="en-US" sz="2800" spc="-1" strike="noStrike">
              <a:solidFill>
                <a:srgbClr val="000000"/>
              </a:solidFill>
              <a:latin typeface="HY헤드라인M"/>
            </a:endParaRPr>
          </a:p>
          <a:p>
            <a:pPr marL="514440" indent="-514440">
              <a:lnSpc>
                <a:spcPct val="150000"/>
              </a:lnSpc>
              <a:spcBef>
                <a:spcPts val="1400"/>
              </a:spcBef>
              <a:buClr>
                <a:srgbClr val="10126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101260"/>
                </a:solidFill>
                <a:latin typeface="Arial"/>
              </a:rPr>
              <a:t>정리</a:t>
            </a:r>
            <a:r>
              <a:rPr b="1" lang="en-US" sz="2800" spc="-1" strike="noStrike">
                <a:solidFill>
                  <a:srgbClr val="10126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HY헤드라인M"/>
            </a:endParaRPr>
          </a:p>
          <a:p>
            <a:pPr lvl="1" marL="406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90520" y="104400"/>
            <a:ext cx="9329760" cy="55548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01260"/>
                </a:solidFill>
                <a:latin typeface="Arial"/>
              </a:rPr>
              <a:t>PGSFR </a:t>
            </a:r>
            <a:r>
              <a:rPr b="1" lang="ko-KR" sz="3000" spc="-1" strike="noStrike">
                <a:solidFill>
                  <a:srgbClr val="101260"/>
                </a:solidFill>
                <a:latin typeface="Arial"/>
              </a:rPr>
              <a:t>예상 인허가 현안 </a:t>
            </a:r>
            <a:r>
              <a:rPr b="1" lang="en-US" sz="3000" spc="-1" strike="noStrike">
                <a:solidFill>
                  <a:srgbClr val="101260"/>
                </a:solidFill>
                <a:latin typeface="Arial"/>
              </a:rPr>
              <a:t>(</a:t>
            </a:r>
            <a:r>
              <a:rPr b="1" lang="ko-KR" sz="3000" spc="-1" strike="noStrike">
                <a:solidFill>
                  <a:srgbClr val="101260"/>
                </a:solidFill>
                <a:latin typeface="Arial"/>
              </a:rPr>
              <a:t>계속</a:t>
            </a:r>
            <a:r>
              <a:rPr b="1" lang="en-US" sz="3000" spc="-1" strike="noStrike">
                <a:solidFill>
                  <a:srgbClr val="10126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101260"/>
              </a:solidFill>
              <a:latin typeface="HY헤드라인M"/>
            </a:endParaRPr>
          </a:p>
        </p:txBody>
      </p:sp>
      <p:sp>
        <p:nvSpPr>
          <p:cNvPr id="242" name="AutoShape 22"/>
          <p:cNvSpPr/>
          <p:nvPr/>
        </p:nvSpPr>
        <p:spPr>
          <a:xfrm>
            <a:off x="415800" y="1052640"/>
            <a:ext cx="5386680" cy="5244840"/>
          </a:xfrm>
          <a:prstGeom prst="roundRect">
            <a:avLst>
              <a:gd name="adj" fmla="val 3833"/>
            </a:avLst>
          </a:prstGeom>
          <a:noFill/>
          <a:ln w="1908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10126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01260"/>
                </a:solidFill>
                <a:latin typeface="Arial"/>
              </a:rPr>
              <a:t>안전해석 코드 검증   </a:t>
            </a:r>
            <a:r>
              <a:rPr b="1" lang="en-US" sz="2000" spc="-1" strike="noStrike">
                <a:solidFill>
                  <a:srgbClr val="10126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모델 불확실성 평가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2" marL="1149480" indent="-2858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자연순환 예측 성능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2" marL="1149480" indent="-2858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Actinide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연료 성능 모델 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방법론 보수성 평가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10126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01260"/>
                </a:solidFill>
                <a:latin typeface="Arial"/>
              </a:rPr>
              <a:t>선원항  </a:t>
            </a:r>
            <a:r>
              <a:rPr b="1" lang="en-US" sz="2000" spc="-1" strike="noStrike">
                <a:solidFill>
                  <a:srgbClr val="10126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소듐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격납건물 내 핵종 거동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소듐풀 표면 핵종 방출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핵연료 및 소듐본드 내 핵종 거동 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10126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01260"/>
                </a:solidFill>
                <a:latin typeface="Arial"/>
              </a:rPr>
              <a:t>소듐안전성   </a:t>
            </a:r>
            <a:r>
              <a:rPr b="1" lang="en-US" sz="2000" spc="-1" strike="noStrike">
                <a:solidFill>
                  <a:srgbClr val="10126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소듐 화재 분석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2" marL="1149480" indent="-2858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소듐화재 및 에어로졸 거동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소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콘크리트 반응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소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물 반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(SWR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대처 능력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43" name="TextBox 5"/>
          <p:cNvSpPr/>
          <p:nvPr/>
        </p:nvSpPr>
        <p:spPr>
          <a:xfrm>
            <a:off x="5748480" y="6200640"/>
            <a:ext cx="41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Arial"/>
              </a:rPr>
              <a:t>금속연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LOF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Arial"/>
              </a:rPr>
              <a:t>모델 불확실도 평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Sathiyasheela, 2013&gt;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44" name="Rectangle 20"/>
          <p:cNvSpPr/>
          <p:nvPr/>
        </p:nvSpPr>
        <p:spPr>
          <a:xfrm>
            <a:off x="6060960" y="907920"/>
            <a:ext cx="3559320" cy="254484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245" name="Picture 25" descr="Averagecoolanttemperatureatpumpinlet_4-longterm"/>
          <p:cNvPicPr/>
          <p:nvPr/>
        </p:nvPicPr>
        <p:blipFill>
          <a:blip r:embed="rId1"/>
          <a:stretch/>
        </p:blipFill>
        <p:spPr>
          <a:xfrm>
            <a:off x="6443640" y="2189160"/>
            <a:ext cx="1487520" cy="11858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7" descr="Averagecoolanttemperatureatcoreoutlet_13longterm"/>
          <p:cNvPicPr/>
          <p:nvPr/>
        </p:nvPicPr>
        <p:blipFill>
          <a:blip r:embed="rId2"/>
          <a:stretch/>
        </p:blipFill>
        <p:spPr>
          <a:xfrm>
            <a:off x="7994520" y="2181240"/>
            <a:ext cx="1494000" cy="1190520"/>
          </a:xfrm>
          <a:prstGeom prst="rect">
            <a:avLst/>
          </a:prstGeom>
          <a:ln w="0">
            <a:noFill/>
          </a:ln>
        </p:spPr>
      </p:pic>
      <p:sp>
        <p:nvSpPr>
          <p:cNvPr id="247" name="TextBox 12"/>
          <p:cNvSpPr/>
          <p:nvPr/>
        </p:nvSpPr>
        <p:spPr>
          <a:xfrm>
            <a:off x="6060960" y="3506760"/>
            <a:ext cx="367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Phenix EOL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Arial"/>
              </a:rPr>
              <a:t>자연순환 예측 결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IAEA, 2013&gt;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248" name="그림 3" descr=""/>
          <p:cNvPicPr/>
          <p:nvPr/>
        </p:nvPicPr>
        <p:blipFill>
          <a:blip r:embed="rId3"/>
          <a:stretch/>
        </p:blipFill>
        <p:spPr>
          <a:xfrm>
            <a:off x="6346800" y="1042920"/>
            <a:ext cx="1476360" cy="1131840"/>
          </a:xfrm>
          <a:prstGeom prst="rect">
            <a:avLst/>
          </a:prstGeom>
          <a:ln w="0">
            <a:noFill/>
          </a:ln>
        </p:spPr>
      </p:pic>
      <p:pic>
        <p:nvPicPr>
          <p:cNvPr id="249" name="그림 14" descr=""/>
          <p:cNvPicPr/>
          <p:nvPr/>
        </p:nvPicPr>
        <p:blipFill>
          <a:blip r:embed="rId4"/>
          <a:stretch/>
        </p:blipFill>
        <p:spPr>
          <a:xfrm>
            <a:off x="7994520" y="1028880"/>
            <a:ext cx="1557360" cy="1190520"/>
          </a:xfrm>
          <a:prstGeom prst="rect">
            <a:avLst/>
          </a:prstGeom>
          <a:ln w="0">
            <a:noFill/>
          </a:ln>
        </p:spPr>
      </p:pic>
      <p:pic>
        <p:nvPicPr>
          <p:cNvPr id="250" name="그림 1" descr=""/>
          <p:cNvPicPr/>
          <p:nvPr/>
        </p:nvPicPr>
        <p:blipFill>
          <a:blip r:embed="rId5"/>
          <a:stretch/>
        </p:blipFill>
        <p:spPr>
          <a:xfrm>
            <a:off x="6334200" y="3940200"/>
            <a:ext cx="332100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0520" y="128520"/>
            <a:ext cx="9329760" cy="55584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01260"/>
                </a:solidFill>
                <a:latin typeface="Arial"/>
              </a:rPr>
              <a:t>PGSFR </a:t>
            </a:r>
            <a:r>
              <a:rPr b="1" lang="ko-KR" sz="3000" spc="-1" strike="noStrike">
                <a:solidFill>
                  <a:srgbClr val="101260"/>
                </a:solidFill>
                <a:latin typeface="Arial"/>
              </a:rPr>
              <a:t>인허가성</a:t>
            </a:r>
            <a:endParaRPr b="0" lang="en-US" sz="3000" spc="-1" strike="noStrike">
              <a:solidFill>
                <a:srgbClr val="101260"/>
              </a:solidFill>
              <a:latin typeface="HY헤드라인M"/>
            </a:endParaRPr>
          </a:p>
        </p:txBody>
      </p:sp>
      <p:sp>
        <p:nvSpPr>
          <p:cNvPr id="252" name="AutoShape 22"/>
          <p:cNvSpPr/>
          <p:nvPr/>
        </p:nvSpPr>
        <p:spPr>
          <a:xfrm>
            <a:off x="415800" y="1052640"/>
            <a:ext cx="8353440" cy="5148000"/>
          </a:xfrm>
          <a:prstGeom prst="roundRect">
            <a:avLst>
              <a:gd name="adj" fmla="val 3833"/>
            </a:avLst>
          </a:prstGeom>
          <a:noFill/>
          <a:ln w="1908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10126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1260"/>
                </a:solidFill>
                <a:latin typeface="Arial"/>
              </a:rPr>
              <a:t> </a:t>
            </a:r>
            <a:r>
              <a:rPr b="1" lang="ko-KR" sz="2000" spc="-1" strike="noStrike">
                <a:solidFill>
                  <a:srgbClr val="101260"/>
                </a:solidFill>
                <a:latin typeface="Arial"/>
              </a:rPr>
              <a:t>인허가 체계 및 규제요건 확립 </a:t>
            </a:r>
            <a:r>
              <a:rPr b="1" lang="en-US" sz="2000" spc="-1" strike="noStrike">
                <a:solidFill>
                  <a:srgbClr val="10126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미래형 원자로 인허가 체계 수립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2" marL="1149480" indent="-2858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사전안전성 검토 절차로 미래형 원자로에 대한 국민 신뢰 확보 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PGSFR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인허가 절차 확정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2" marL="1149480" indent="-2858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특정설계 인가 추진 여부 결정 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2" marL="1149480" indent="-2858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Option 1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또는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Option 3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규제요건 및 기술기준 확립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규제기관 전문 인력 확보 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10126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1260"/>
                </a:solidFill>
                <a:latin typeface="Arial"/>
              </a:rPr>
              <a:t>PGSFR </a:t>
            </a:r>
            <a:r>
              <a:rPr b="1" lang="ko-KR" sz="2000" spc="-1" strike="noStrike">
                <a:solidFill>
                  <a:srgbClr val="101260"/>
                </a:solidFill>
                <a:latin typeface="Arial"/>
              </a:rPr>
              <a:t>안전성 향상 </a:t>
            </a:r>
            <a:r>
              <a:rPr b="1" lang="en-US" sz="2000" spc="-1" strike="noStrike">
                <a:solidFill>
                  <a:srgbClr val="10126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고유안전성 검증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중대사고 대처 능력 입증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안전기준 근거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RPS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설계 명확화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0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90520" y="128520"/>
            <a:ext cx="9329760" cy="55584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01260"/>
                </a:solidFill>
                <a:latin typeface="Arial"/>
              </a:rPr>
              <a:t>PGSFR </a:t>
            </a:r>
            <a:r>
              <a:rPr b="1" lang="ko-KR" sz="3000" spc="-1" strike="noStrike">
                <a:solidFill>
                  <a:srgbClr val="101260"/>
                </a:solidFill>
                <a:latin typeface="Arial"/>
              </a:rPr>
              <a:t>안전성 향상</a:t>
            </a:r>
            <a:endParaRPr b="0" lang="en-US" sz="3000" spc="-1" strike="noStrike">
              <a:solidFill>
                <a:srgbClr val="101260"/>
              </a:solidFill>
              <a:latin typeface="HY헤드라인M"/>
            </a:endParaRPr>
          </a:p>
        </p:txBody>
      </p:sp>
      <p:sp>
        <p:nvSpPr>
          <p:cNvPr id="255" name="AutoShape 22"/>
          <p:cNvSpPr/>
          <p:nvPr/>
        </p:nvSpPr>
        <p:spPr>
          <a:xfrm>
            <a:off x="415800" y="873000"/>
            <a:ext cx="5977080" cy="5651640"/>
          </a:xfrm>
          <a:prstGeom prst="roundRect">
            <a:avLst>
              <a:gd name="adj" fmla="val 3833"/>
            </a:avLst>
          </a:prstGeom>
          <a:noFill/>
          <a:ln w="1908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10126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1260"/>
                </a:solidFill>
                <a:latin typeface="Arial"/>
              </a:rPr>
              <a:t> </a:t>
            </a:r>
            <a:r>
              <a:rPr b="1" lang="ko-KR" sz="2000" spc="-1" strike="noStrike">
                <a:solidFill>
                  <a:srgbClr val="101260"/>
                </a:solidFill>
                <a:latin typeface="Arial"/>
              </a:rPr>
              <a:t>피동계통 성능 입증 </a:t>
            </a:r>
            <a:r>
              <a:rPr b="1" lang="en-US" sz="2000" spc="-1" strike="noStrike">
                <a:solidFill>
                  <a:srgbClr val="10126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종합효과 실험 장치 구축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10126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01260"/>
                </a:solidFill>
                <a:latin typeface="Arial"/>
              </a:rPr>
              <a:t>고유안전 특성 입증 </a:t>
            </a:r>
            <a:r>
              <a:rPr b="1" lang="en-US" sz="2000" spc="-1" strike="noStrike">
                <a:solidFill>
                  <a:srgbClr val="10126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금속연료 특성 시험 자료 확보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SAS-4A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금속연료 버전 개발 및 검증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10126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1260"/>
                </a:solidFill>
                <a:latin typeface="Arial"/>
              </a:rPr>
              <a:t>DEC </a:t>
            </a:r>
            <a:r>
              <a:rPr b="1" lang="ko-KR" sz="2000" spc="-1" strike="noStrike">
                <a:solidFill>
                  <a:srgbClr val="101260"/>
                </a:solidFill>
                <a:latin typeface="Arial"/>
              </a:rPr>
              <a:t>안전성 확보 </a:t>
            </a:r>
            <a:r>
              <a:rPr b="1" lang="en-US" sz="2000" spc="-1" strike="noStrike">
                <a:solidFill>
                  <a:srgbClr val="10126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중대사고 조기 종료 또는 배제 입증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2" marL="10825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TIB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수용 능력 평가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2" marL="10825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소듐기화반응도 최소화 설계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외부사고 대처능력 향상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2" marL="10825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잔열제거 상실 해석 및 대처설비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(RVCS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Level-2 PSA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지원용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ISFR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코드 개발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10126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01260"/>
                </a:solidFill>
                <a:latin typeface="Arial"/>
              </a:rPr>
              <a:t>안전해석 코드 검증 등  </a:t>
            </a:r>
            <a:r>
              <a:rPr b="1" lang="en-US" sz="2000" spc="-1" strike="noStrike">
                <a:solidFill>
                  <a:srgbClr val="10126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코드 특정기술주제보고서 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해석 방법론 검증 완료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56" name="TextBox 7"/>
          <p:cNvSpPr/>
          <p:nvPr/>
        </p:nvSpPr>
        <p:spPr>
          <a:xfrm>
            <a:off x="6429240" y="5656320"/>
            <a:ext cx="347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Monju TIB SAS4A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Arial"/>
              </a:rPr>
              <a:t>해석 결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Fukano, 2015&gt;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0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258" name="_x276085088" descr="EMB00000bd03f8a"/>
          <p:cNvPicPr/>
          <p:nvPr/>
        </p:nvPicPr>
        <p:blipFill>
          <a:blip r:embed="rId1"/>
          <a:stretch/>
        </p:blipFill>
        <p:spPr>
          <a:xfrm>
            <a:off x="6589800" y="1347840"/>
            <a:ext cx="1690560" cy="1458720"/>
          </a:xfrm>
          <a:prstGeom prst="rect">
            <a:avLst/>
          </a:prstGeom>
          <a:ln w="0">
            <a:noFill/>
          </a:ln>
        </p:spPr>
      </p:pic>
      <p:pic>
        <p:nvPicPr>
          <p:cNvPr id="259" name="_x276085488" descr="EMB00000bd03f8b"/>
          <p:cNvPicPr/>
          <p:nvPr/>
        </p:nvPicPr>
        <p:blipFill>
          <a:blip r:embed="rId2"/>
          <a:stretch/>
        </p:blipFill>
        <p:spPr>
          <a:xfrm>
            <a:off x="8265960" y="1347840"/>
            <a:ext cx="1625760" cy="1565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8"/>
          <p:cNvSpPr/>
          <p:nvPr/>
        </p:nvSpPr>
        <p:spPr>
          <a:xfrm>
            <a:off x="152280" y="152280"/>
            <a:ext cx="9906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61" name="TextBox 8"/>
          <p:cNvSpPr/>
          <p:nvPr/>
        </p:nvSpPr>
        <p:spPr>
          <a:xfrm>
            <a:off x="6392880" y="3030480"/>
            <a:ext cx="34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CEFR TIB SIMMER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Arial"/>
              </a:rPr>
              <a:t>해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Arial"/>
              </a:rPr>
              <a:t>결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Wang, 2007&gt;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0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263" name="_x276083008" descr="EMB00000bd03f8e"/>
          <p:cNvPicPr/>
          <p:nvPr/>
        </p:nvPicPr>
        <p:blipFill>
          <a:blip r:embed="rId3"/>
          <a:stretch/>
        </p:blipFill>
        <p:spPr>
          <a:xfrm>
            <a:off x="6550200" y="3602160"/>
            <a:ext cx="33192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0520" y="128520"/>
            <a:ext cx="9329760" cy="55584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1260"/>
                </a:solidFill>
                <a:latin typeface="Arial"/>
              </a:rPr>
              <a:t>기타 인허가 관련 사항</a:t>
            </a:r>
            <a:endParaRPr b="0" lang="en-US" sz="3000" spc="-1" strike="noStrike">
              <a:solidFill>
                <a:srgbClr val="101260"/>
              </a:solidFill>
              <a:latin typeface="HY헤드라인M"/>
            </a:endParaRPr>
          </a:p>
        </p:txBody>
      </p:sp>
      <p:sp>
        <p:nvSpPr>
          <p:cNvPr id="265" name="AutoShape 22"/>
          <p:cNvSpPr/>
          <p:nvPr/>
        </p:nvSpPr>
        <p:spPr>
          <a:xfrm>
            <a:off x="704880" y="1052640"/>
            <a:ext cx="5977080" cy="1692000"/>
          </a:xfrm>
          <a:prstGeom prst="roundRect">
            <a:avLst>
              <a:gd name="adj" fmla="val 3833"/>
            </a:avLst>
          </a:prstGeom>
          <a:noFill/>
          <a:ln w="1908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10126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1260"/>
                </a:solidFill>
                <a:latin typeface="Arial"/>
              </a:rPr>
              <a:t> </a:t>
            </a:r>
            <a:r>
              <a:rPr b="1" lang="ko-KR" sz="2000" spc="-1" strike="noStrike">
                <a:solidFill>
                  <a:srgbClr val="101260"/>
                </a:solidFill>
                <a:latin typeface="Arial"/>
              </a:rPr>
              <a:t>물리적 방호 설계 반영 </a:t>
            </a:r>
            <a:r>
              <a:rPr b="1" lang="en-US" sz="2000" spc="-1" strike="noStrike">
                <a:solidFill>
                  <a:srgbClr val="10126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PGSFR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물리적 방호 능력 평가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10126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1260"/>
                </a:solidFill>
                <a:latin typeface="Arial"/>
              </a:rPr>
              <a:t> </a:t>
            </a:r>
            <a:r>
              <a:rPr b="1" lang="ko-KR" sz="2000" spc="-1" strike="noStrike">
                <a:solidFill>
                  <a:srgbClr val="101260"/>
                </a:solidFill>
                <a:latin typeface="Arial"/>
              </a:rPr>
              <a:t>해체 설계 반영 </a:t>
            </a:r>
            <a:r>
              <a:rPr b="1" lang="en-US" sz="2000" spc="-1" strike="noStrike">
                <a:solidFill>
                  <a:srgbClr val="10126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66" name="Rectangle 2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67" name="TextBox 5"/>
          <p:cNvSpPr/>
          <p:nvPr/>
        </p:nvSpPr>
        <p:spPr>
          <a:xfrm>
            <a:off x="344520" y="6093000"/>
            <a:ext cx="432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SFR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Arial"/>
              </a:rPr>
              <a:t>핵연료 이동 경로 및 확산 방지 대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G.E. Apostolakis, ISU, 2011&gt;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268" name="그림 6" descr=""/>
          <p:cNvPicPr/>
          <p:nvPr/>
        </p:nvPicPr>
        <p:blipFill>
          <a:blip r:embed="rId1"/>
          <a:stretch/>
        </p:blipFill>
        <p:spPr>
          <a:xfrm>
            <a:off x="415800" y="2852640"/>
            <a:ext cx="4932360" cy="3117960"/>
          </a:xfrm>
          <a:prstGeom prst="rect">
            <a:avLst/>
          </a:prstGeom>
          <a:ln w="0">
            <a:noFill/>
          </a:ln>
        </p:spPr>
      </p:pic>
      <p:pic>
        <p:nvPicPr>
          <p:cNvPr id="269" name="그림 7" descr=""/>
          <p:cNvPicPr/>
          <p:nvPr/>
        </p:nvPicPr>
        <p:blipFill>
          <a:blip r:embed="rId2"/>
          <a:stretch/>
        </p:blipFill>
        <p:spPr>
          <a:xfrm>
            <a:off x="6032520" y="2986200"/>
            <a:ext cx="3330720" cy="2973240"/>
          </a:xfrm>
          <a:prstGeom prst="rect">
            <a:avLst/>
          </a:prstGeom>
          <a:ln w="0">
            <a:noFill/>
          </a:ln>
        </p:spPr>
      </p:pic>
      <p:sp>
        <p:nvSpPr>
          <p:cNvPr id="270" name="TextBox 9"/>
          <p:cNvSpPr/>
          <p:nvPr/>
        </p:nvSpPr>
        <p:spPr>
          <a:xfrm>
            <a:off x="5421240" y="6093000"/>
            <a:ext cx="442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SFR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Arial"/>
              </a:rPr>
              <a:t>핵확산 위험도에 대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bability-Consequence Space, G.E. Apostolakis, ISU, 2011&gt;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90520" y="128520"/>
            <a:ext cx="9329760" cy="55584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01260"/>
                </a:solidFill>
                <a:latin typeface="Arial"/>
              </a:rPr>
              <a:t>Gen-IV </a:t>
            </a:r>
            <a:r>
              <a:rPr b="1" lang="ko-KR" sz="3000" spc="-1" strike="noStrike">
                <a:solidFill>
                  <a:srgbClr val="101260"/>
                </a:solidFill>
                <a:latin typeface="Arial"/>
              </a:rPr>
              <a:t>안전 목표</a:t>
            </a:r>
            <a:endParaRPr b="0" lang="en-US" sz="3000" spc="-1" strike="noStrike">
              <a:solidFill>
                <a:srgbClr val="101260"/>
              </a:solidFill>
              <a:latin typeface="HY헤드라인M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849240" y="1881360"/>
            <a:ext cx="8045640" cy="4584600"/>
          </a:xfrm>
          <a:prstGeom prst="rect">
            <a:avLst/>
          </a:prstGeom>
          <a:ln w="0">
            <a:noFill/>
          </a:ln>
        </p:spPr>
      </p:pic>
      <p:sp>
        <p:nvSpPr>
          <p:cNvPr id="273" name="テキスト ボックス 2"/>
          <p:cNvSpPr/>
          <p:nvPr/>
        </p:nvSpPr>
        <p:spPr>
          <a:xfrm>
            <a:off x="851040" y="1511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al Area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74" name="テキスト ボックス 8"/>
          <p:cNvSpPr/>
          <p:nvPr/>
        </p:nvSpPr>
        <p:spPr>
          <a:xfrm>
            <a:off x="2574000" y="151128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al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75" name="テキスト ボックス 9"/>
          <p:cNvSpPr/>
          <p:nvPr/>
        </p:nvSpPr>
        <p:spPr>
          <a:xfrm>
            <a:off x="4312080" y="150984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iteria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76" name="テキスト ボックス 10"/>
          <p:cNvSpPr/>
          <p:nvPr/>
        </p:nvSpPr>
        <p:spPr>
          <a:xfrm>
            <a:off x="7020360" y="150984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rics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77" name="TextBox 1"/>
          <p:cNvSpPr/>
          <p:nvPr/>
        </p:nvSpPr>
        <p:spPr>
          <a:xfrm>
            <a:off x="3135600" y="1008000"/>
            <a:ext cx="370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1eae"/>
                </a:solidFill>
                <a:latin typeface="HY헤드라인M"/>
              </a:rPr>
              <a:t>PGSFR : Prototype Gen-IV SFR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78" name="모서리가 둥근 직사각형 2"/>
          <p:cNvSpPr/>
          <p:nvPr/>
        </p:nvSpPr>
        <p:spPr>
          <a:xfrm>
            <a:off x="2905200" y="896760"/>
            <a:ext cx="4110120" cy="61308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251e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타원 2"/>
          <p:cNvSpPr/>
          <p:nvPr/>
        </p:nvSpPr>
        <p:spPr>
          <a:xfrm>
            <a:off x="7034040" y="4227480"/>
            <a:ext cx="1656000" cy="1476360"/>
          </a:xfrm>
          <a:prstGeom prst="ellipse">
            <a:avLst/>
          </a:prstGeom>
          <a:gradFill rotWithShape="0">
            <a:gsLst>
              <a:gs pos="0">
                <a:srgbClr val="bbe0e3">
                  <a:alpha val="42352"/>
                </a:srgbClr>
              </a:gs>
              <a:gs pos="100000">
                <a:srgbClr val="ffffc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80" name="모서리가 둥근 직사각형 4"/>
          <p:cNvSpPr/>
          <p:nvPr/>
        </p:nvSpPr>
        <p:spPr>
          <a:xfrm>
            <a:off x="2720880" y="1233360"/>
            <a:ext cx="4033800" cy="1185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1d1f0"/>
              </a:gs>
              <a:gs pos="100000">
                <a:srgbClr val="ffffcb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25751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90520" y="128520"/>
            <a:ext cx="9329760" cy="55584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01260"/>
                </a:solidFill>
                <a:latin typeface="Arial"/>
              </a:rPr>
              <a:t>Gen-IV </a:t>
            </a:r>
            <a:r>
              <a:rPr b="1" lang="ko-KR" sz="3000" spc="-1" strike="noStrike">
                <a:solidFill>
                  <a:srgbClr val="101260"/>
                </a:solidFill>
                <a:latin typeface="Arial"/>
              </a:rPr>
              <a:t>안전 목표 달성</a:t>
            </a:r>
            <a:endParaRPr b="0" lang="en-US" sz="3000" spc="-1" strike="noStrike">
              <a:solidFill>
                <a:srgbClr val="101260"/>
              </a:solidFill>
              <a:latin typeface="HY헤드라인M"/>
            </a:endParaRPr>
          </a:p>
        </p:txBody>
      </p:sp>
      <p:sp>
        <p:nvSpPr>
          <p:cNvPr id="282" name="TextBox 7"/>
          <p:cNvSpPr/>
          <p:nvPr/>
        </p:nvSpPr>
        <p:spPr>
          <a:xfrm>
            <a:off x="2427120" y="6021360"/>
            <a:ext cx="347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CDF &amp; LERF Trends, OECD NEA, 2010&gt;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0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284" name="_x247691248" descr="EMB00001a0c320e"/>
          <p:cNvPicPr/>
          <p:nvPr/>
        </p:nvPicPr>
        <p:blipFill>
          <a:blip r:embed="rId1"/>
          <a:stretch/>
        </p:blipFill>
        <p:spPr>
          <a:xfrm>
            <a:off x="1965240" y="2565360"/>
            <a:ext cx="5070600" cy="3325680"/>
          </a:xfrm>
          <a:prstGeom prst="rect">
            <a:avLst/>
          </a:prstGeom>
          <a:ln w="0">
            <a:noFill/>
          </a:ln>
        </p:spPr>
      </p:pic>
      <p:sp>
        <p:nvSpPr>
          <p:cNvPr id="285" name="TextBox 1"/>
          <p:cNvSpPr/>
          <p:nvPr/>
        </p:nvSpPr>
        <p:spPr>
          <a:xfrm>
            <a:off x="2936880" y="1521000"/>
            <a:ext cx="37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DF and LERF are measures and surrogates for the safety goals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86" name="TextBox 1"/>
          <p:cNvSpPr/>
          <p:nvPr/>
        </p:nvSpPr>
        <p:spPr>
          <a:xfrm>
            <a:off x="7286760" y="4465800"/>
            <a:ext cx="1295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HY헤드라인M"/>
              </a:rPr>
              <a:t>Generation IV</a:t>
            </a:r>
            <a:endParaRPr b="1" lang="en-US" sz="10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HY헤드라인M"/>
              </a:rPr>
              <a:t>CDF 10</a:t>
            </a:r>
            <a:r>
              <a:rPr b="1" lang="en-US" sz="1000" spc="-1" strike="noStrike" baseline="30000">
                <a:solidFill>
                  <a:srgbClr val="000000"/>
                </a:solidFill>
                <a:latin typeface="HY헤드라인M"/>
              </a:rPr>
              <a:t>-6</a:t>
            </a:r>
            <a:r>
              <a:rPr b="1" lang="en-US" sz="1000" spc="-1" strike="noStrike">
                <a:solidFill>
                  <a:srgbClr val="000000"/>
                </a:solidFill>
                <a:latin typeface="HY헤드라인M"/>
              </a:rPr>
              <a:t>~10</a:t>
            </a:r>
            <a:r>
              <a:rPr b="1" lang="en-US" sz="1000" spc="-1" strike="noStrike" baseline="30000">
                <a:solidFill>
                  <a:srgbClr val="000000"/>
                </a:solidFill>
                <a:latin typeface="HY헤드라인M"/>
              </a:rPr>
              <a:t>-7</a:t>
            </a:r>
            <a:r>
              <a:rPr b="1" lang="en-US" sz="1000" spc="-1" strike="noStrike">
                <a:solidFill>
                  <a:srgbClr val="000000"/>
                </a:solidFill>
                <a:latin typeface="HY헤드라인M"/>
              </a:rPr>
              <a:t>/yr</a:t>
            </a:r>
            <a:endParaRPr b="1" lang="en-US" sz="10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HY헤드라인M"/>
              </a:rPr>
              <a:t>LERF 10</a:t>
            </a:r>
            <a:r>
              <a:rPr b="1" lang="en-US" sz="1000" spc="-1" strike="noStrike" baseline="30000">
                <a:solidFill>
                  <a:srgbClr val="000000"/>
                </a:solidFill>
                <a:latin typeface="HY헤드라인M"/>
              </a:rPr>
              <a:t>-7</a:t>
            </a:r>
            <a:r>
              <a:rPr b="1" lang="en-US" sz="1000" spc="-1" strike="noStrike">
                <a:solidFill>
                  <a:srgbClr val="000000"/>
                </a:solidFill>
                <a:latin typeface="HY헤드라인M"/>
              </a:rPr>
              <a:t>~10</a:t>
            </a:r>
            <a:r>
              <a:rPr b="1" lang="en-US" sz="1000" spc="-1" strike="noStrike" baseline="30000">
                <a:solidFill>
                  <a:srgbClr val="000000"/>
                </a:solidFill>
                <a:latin typeface="HY헤드라인M"/>
              </a:rPr>
              <a:t>-8</a:t>
            </a:r>
            <a:r>
              <a:rPr b="1" lang="en-US" sz="1000" spc="-1" strike="noStrike">
                <a:solidFill>
                  <a:srgbClr val="000000"/>
                </a:solidFill>
                <a:latin typeface="HY헤드라인M"/>
              </a:rPr>
              <a:t>/yr</a:t>
            </a:r>
            <a:endParaRPr b="1" lang="en-US" sz="1000" spc="-1" strike="noStrike">
              <a:solidFill>
                <a:srgbClr val="000000"/>
              </a:solidFill>
              <a:latin typeface="HY헤드라인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90520" y="128520"/>
            <a:ext cx="9329760" cy="55584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1260"/>
                </a:solidFill>
                <a:latin typeface="Arial"/>
              </a:rPr>
              <a:t>정리</a:t>
            </a:r>
            <a:endParaRPr b="0" lang="en-US" sz="3000" spc="-1" strike="noStrike">
              <a:solidFill>
                <a:srgbClr val="101260"/>
              </a:solidFill>
              <a:latin typeface="HY헤드라인M"/>
            </a:endParaRPr>
          </a:p>
        </p:txBody>
      </p:sp>
      <p:sp>
        <p:nvSpPr>
          <p:cNvPr id="288" name="AutoShape 22"/>
          <p:cNvSpPr/>
          <p:nvPr/>
        </p:nvSpPr>
        <p:spPr>
          <a:xfrm>
            <a:off x="488880" y="907920"/>
            <a:ext cx="8893080" cy="4753080"/>
          </a:xfrm>
          <a:prstGeom prst="roundRect">
            <a:avLst>
              <a:gd name="adj" fmla="val 3833"/>
            </a:avLst>
          </a:prstGeom>
          <a:noFill/>
          <a:ln w="1908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10126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01260"/>
                </a:solidFill>
                <a:latin typeface="Arial"/>
              </a:rPr>
              <a:t>소듐냉각고속로 인허가는 현재 인허가 절차에 따르거나 미래형원자로 인허가 절차를 확립하여 추진하는 것이 가능함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10126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01260"/>
                </a:solidFill>
                <a:latin typeface="Arial"/>
              </a:rPr>
              <a:t>미래형 원자로 인허가 절차를 완비하기 위해서는 현행 원자력 법규의 개정이 필요하며</a:t>
            </a:r>
            <a:r>
              <a:rPr b="0" lang="en-US" sz="2000" spc="-1" strike="noStrike">
                <a:solidFill>
                  <a:srgbClr val="10126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101260"/>
                </a:solidFill>
                <a:latin typeface="Arial"/>
              </a:rPr>
              <a:t>안전성의 면밀한 검토가 가능하도록 사전안전성 검토와 특정설계 승인 등의 내용을 포함하는 것이 바람직함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10126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01260"/>
                </a:solidFill>
                <a:latin typeface="Arial"/>
              </a:rPr>
              <a:t>소듐냉각고속로 인허가 현안은 피동냉각성능 검증</a:t>
            </a:r>
            <a:r>
              <a:rPr b="0" lang="en-US" sz="2000" spc="-1" strike="noStrike">
                <a:solidFill>
                  <a:srgbClr val="10126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101260"/>
                </a:solidFill>
                <a:latin typeface="Arial"/>
              </a:rPr>
              <a:t>고유안전 특성 입증</a:t>
            </a:r>
            <a:r>
              <a:rPr b="0" lang="en-US" sz="2000" spc="-1" strike="noStrike">
                <a:solidFill>
                  <a:srgbClr val="10126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101260"/>
                </a:solidFill>
                <a:latin typeface="Arial"/>
              </a:rPr>
              <a:t>핵연료 및 노심재료 건전성</a:t>
            </a:r>
            <a:r>
              <a:rPr b="0" lang="en-US" sz="2000" spc="-1" strike="noStrike">
                <a:solidFill>
                  <a:srgbClr val="10126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101260"/>
                </a:solidFill>
                <a:latin typeface="Arial"/>
              </a:rPr>
              <a:t>안전해석 코드 검증</a:t>
            </a:r>
            <a:r>
              <a:rPr b="0" lang="en-US" sz="2000" spc="-1" strike="noStrike">
                <a:solidFill>
                  <a:srgbClr val="10126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101260"/>
                </a:solidFill>
                <a:latin typeface="Arial"/>
              </a:rPr>
              <a:t>선원항</a:t>
            </a:r>
            <a:r>
              <a:rPr b="0" lang="en-US" sz="2000" spc="-1" strike="noStrike">
                <a:solidFill>
                  <a:srgbClr val="10126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101260"/>
                </a:solidFill>
                <a:latin typeface="Arial"/>
              </a:rPr>
              <a:t>소듐안전성 등에서 제기될 것으로 예상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1012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01260"/>
                </a:solidFill>
                <a:latin typeface="Arial"/>
                <a:ea typeface="HY헤드라인M"/>
              </a:rPr>
              <a:t>반응도 궤환 모델의 불확실도 평가 중요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1012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01260"/>
                </a:solidFill>
                <a:latin typeface="Arial"/>
                <a:ea typeface="HY헤드라인M"/>
              </a:rPr>
              <a:t>소듐기화반응도를 최대한 낮추는 등 중대사고대처 또는 배제설계 노력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10126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01260"/>
                </a:solidFill>
                <a:latin typeface="Arial"/>
              </a:rPr>
              <a:t>소듐냉각고속로 인허가성 향상을 위해서는 인허가 체계를 조기에 확립하고 안전성 향상을 위한 설계 기술 개발 집중이 요구됨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10126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9" descr="E:\8-Journal &amp; Conferences\6 KNS 2015 WS Autumn\원자력법령체계.gif"/>
          <p:cNvPicPr/>
          <p:nvPr/>
        </p:nvPicPr>
        <p:blipFill>
          <a:blip r:embed="rId1"/>
          <a:stretch/>
        </p:blipFill>
        <p:spPr>
          <a:xfrm>
            <a:off x="5580000" y="2205000"/>
            <a:ext cx="4305240" cy="29527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0520" y="128520"/>
            <a:ext cx="9329760" cy="55584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1260"/>
                </a:solidFill>
                <a:latin typeface="Arial"/>
              </a:rPr>
              <a:t>인허가 대상</a:t>
            </a:r>
            <a:endParaRPr b="0" lang="en-US" sz="3000" spc="-1" strike="noStrike">
              <a:solidFill>
                <a:srgbClr val="101260"/>
              </a:solidFill>
              <a:latin typeface="HY헤드라인M"/>
            </a:endParaRPr>
          </a:p>
        </p:txBody>
      </p:sp>
      <p:sp>
        <p:nvSpPr>
          <p:cNvPr id="132" name="AutoShape 22"/>
          <p:cNvSpPr/>
          <p:nvPr/>
        </p:nvSpPr>
        <p:spPr>
          <a:xfrm>
            <a:off x="452520" y="1052640"/>
            <a:ext cx="5221080" cy="5005440"/>
          </a:xfrm>
          <a:prstGeom prst="roundRect">
            <a:avLst>
              <a:gd name="adj" fmla="val 3833"/>
            </a:avLst>
          </a:prstGeom>
          <a:noFill/>
          <a:ln w="1908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10126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1260"/>
                </a:solidFill>
                <a:latin typeface="Arial"/>
              </a:rPr>
              <a:t> </a:t>
            </a:r>
            <a:r>
              <a:rPr b="1" lang="ko-KR" sz="2000" spc="-1" strike="noStrike">
                <a:solidFill>
                  <a:srgbClr val="101260"/>
                </a:solidFill>
                <a:latin typeface="Arial"/>
              </a:rPr>
              <a:t>건설허가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발전용 원자로 및 관계시설 건설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변경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부지 사전 승인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10126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01260"/>
                </a:solidFill>
                <a:latin typeface="Arial"/>
              </a:rPr>
              <a:t>  </a:t>
            </a:r>
            <a:r>
              <a:rPr b="1" lang="ko-KR" sz="2000" spc="-1" strike="noStrike">
                <a:solidFill>
                  <a:srgbClr val="101260"/>
                </a:solidFill>
                <a:latin typeface="Arial"/>
              </a:rPr>
              <a:t>표준설계 인가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반복적으로 건설되는 설계의 발전용원자로 및 관계시설의 설계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변경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인가 유효기간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년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10126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01260"/>
                </a:solidFill>
                <a:latin typeface="Arial"/>
              </a:rPr>
              <a:t>운영허가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발전용 원자로 및 관계시설 운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변경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10126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01260"/>
                </a:solidFill>
                <a:latin typeface="Arial"/>
              </a:rPr>
              <a:t>기타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핵연료물질 사용 허가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해체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33" name="TextBox 8"/>
          <p:cNvSpPr/>
          <p:nvPr/>
        </p:nvSpPr>
        <p:spPr>
          <a:xfrm>
            <a:off x="6408720" y="5553000"/>
            <a:ext cx="34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Arial"/>
              </a:rPr>
              <a:t>원자력 법령 및 기술기준 체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34" name="TextBox 7"/>
          <p:cNvSpPr/>
          <p:nvPr/>
        </p:nvSpPr>
        <p:spPr>
          <a:xfrm>
            <a:off x="668160" y="6093000"/>
            <a:ext cx="385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* </a:t>
            </a: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Arial"/>
              </a:rPr>
              <a:t>원자력안전법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(2015.7.21. </a:t>
            </a: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Arial"/>
              </a:rPr>
              <a:t>시행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11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90520" y="128520"/>
            <a:ext cx="9329760" cy="55584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1260"/>
                </a:solidFill>
                <a:latin typeface="Arial"/>
              </a:rPr>
              <a:t>원자력발전소 인허가 서류 및 기준</a:t>
            </a:r>
            <a:endParaRPr b="0" lang="en-US" sz="3000" spc="-1" strike="noStrike">
              <a:solidFill>
                <a:srgbClr val="101260"/>
              </a:solidFill>
              <a:latin typeface="HY헤드라인M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149480" y="890640"/>
          <a:ext cx="7619760" cy="5313240"/>
        </p:xfrm>
        <a:graphic>
          <a:graphicData uri="http://schemas.openxmlformats.org/drawingml/2006/table">
            <a:tbl>
              <a:tblPr/>
              <a:tblGrid>
                <a:gridCol w="1500120"/>
                <a:gridCol w="3311640"/>
                <a:gridCol w="280800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인허가 구분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제출 서류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허가 기준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00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표준설계 인가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표준설계기술서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원자로 사용목적 설명서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원자로 설계에 관한 기술능력 설명서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표준설계 안전성분석보고서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비상운전절차서 작성계획서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위치 구조 설비 및 성능에 관한 기술기준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방사성물질로부터 국민건강 및 환경상 위해 방지 기준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부지 사전승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방사선환경 영향 평가서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부지조사보고서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위치에 관한 기술기준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건설허가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예비안전성분석보고서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방사선환경 영향 평가서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건설에 관한 품질보증계획서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발전소원자로 및 관계시설의 </a:t>
                      </a:r>
                      <a:r>
                        <a:rPr b="0" lang="ko-KR" sz="1200" spc="-1" strike="noStrike" u="sng">
                          <a:solidFill>
                            <a:srgbClr val="000000"/>
                          </a:solidFill>
                          <a:uFillTx/>
                          <a:latin typeface="HY헤드라인M"/>
                        </a:rPr>
                        <a:t>해체계획서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원자로 사용목적 설명서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원자로시설 설치에 관한 기술능력 설명서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건설에 필요한 기술능력 확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위치 구조 및 설비에 관한 기술기준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방사성물질로부터 국민건강 및 환경상 위해 방지 기준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품질보증에 관한 기술기준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해체 기준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919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운영허가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최종안전성분석보고서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 u="sng">
                          <a:solidFill>
                            <a:srgbClr val="000000"/>
                          </a:solidFill>
                          <a:uFillTx/>
                          <a:latin typeface="HY헤드라인M"/>
                        </a:rPr>
                        <a:t>사고관리계획서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운영기술지침서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방사선환경 영향 평가서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운전에 관한 품질보증계획서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발전소원자로 및 관계시설의 </a:t>
                      </a:r>
                      <a:r>
                        <a:rPr b="0" lang="ko-KR" sz="1200" spc="-1" strike="noStrike" u="sng">
                          <a:solidFill>
                            <a:srgbClr val="000000"/>
                          </a:solidFill>
                          <a:uFillTx/>
                          <a:latin typeface="HY헤드라인M"/>
                        </a:rPr>
                        <a:t>해체계획서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원자로 운전에 관한 기술능력 설명서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핵연료 장전계획 설명서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비상운전절차서 작성 기술적 근거 및 검증방법 설명서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운영에 필요한 기술능력 확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발전소 성능에 관한 기술기준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방사성물질로부터 국민건강 및 환경상 위해 방지 기준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품질보증에 관한 기술기준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해체 기준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사고관리계획 기준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해체승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해체계획서 등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137" name="TextBox 3"/>
          <p:cNvSpPr/>
          <p:nvPr/>
        </p:nvSpPr>
        <p:spPr>
          <a:xfrm>
            <a:off x="5745240" y="6200640"/>
            <a:ext cx="2879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Arial"/>
              </a:rPr>
              <a:t>참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Arial"/>
              </a:rPr>
              <a:t>원자력 안전과 규제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Arial"/>
              </a:rPr>
              <a:t>김효정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, 2012)</a:t>
            </a:r>
            <a:endParaRPr b="1" lang="en-US" sz="1100" spc="-1" strike="noStrike">
              <a:solidFill>
                <a:srgbClr val="000000"/>
              </a:solidFill>
              <a:latin typeface="HY헤드라인M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Arial"/>
              </a:rPr>
              <a:t>원자력안전법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(2015.7.21. </a:t>
            </a: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Arial"/>
              </a:rPr>
              <a:t>시행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11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0520" y="128520"/>
            <a:ext cx="9329760" cy="55584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1260"/>
                </a:solidFill>
                <a:latin typeface="Arial"/>
              </a:rPr>
              <a:t>각국 원자로 분류 비교</a:t>
            </a:r>
            <a:endParaRPr b="0" lang="en-US" sz="3000" spc="-1" strike="noStrike">
              <a:solidFill>
                <a:srgbClr val="101260"/>
              </a:solidFill>
              <a:latin typeface="HY헤드라인M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100160" y="1521000"/>
          <a:ext cx="7381800" cy="3887640"/>
        </p:xfrm>
        <a:graphic>
          <a:graphicData uri="http://schemas.openxmlformats.org/drawingml/2006/table">
            <a:tbl>
              <a:tblPr/>
              <a:tblGrid>
                <a:gridCol w="1049400"/>
                <a:gridCol w="1049400"/>
                <a:gridCol w="1177920"/>
                <a:gridCol w="1081080"/>
                <a:gridCol w="358560"/>
                <a:gridCol w="797040"/>
                <a:gridCol w="931680"/>
                <a:gridCol w="936720"/>
              </a:tblGrid>
              <a:tr h="392040">
                <a:tc>
                  <a:txBody>
                    <a:bodyPr lIns="12600" rIns="12600" tIns="12600" bIns="126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12600" marR="126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한국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12600" marR="126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일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12600" marR="12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gridSpan="2"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미국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12600" marR="12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프랑스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12600" marR="12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영국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12600" marR="12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캐나다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12600" marR="12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344520">
                <a:tc rowSpan="7"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원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자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로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12600" marR="12600">
                    <a:lnL w="1080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solidFill>
                      <a:srgbClr val="e2e2e2"/>
                    </a:solidFill>
                  </a:tcPr>
                </a:tc>
                <a:tc rowSpan="3"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교육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연구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12600" marR="126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시험연구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12600" marR="12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연구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12600" marR="12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출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력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12600" marR="12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비출력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12600" marR="12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비출력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12600" marR="12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비출력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12600" marR="12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시험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12600" marR="12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8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상용성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연구개발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12600" marR="12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발전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12600" marR="126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연구개발단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비발전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12600" marR="12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4"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출력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12600" marR="12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출력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12600" marR="12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출력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12600" marR="12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출력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12600" marR="12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연구개발단계 발전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12600" marR="12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실용선박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12600" marR="12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12600" bIns="126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실용발전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12600" marR="12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0520" y="128520"/>
            <a:ext cx="9329760" cy="55584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1260"/>
                </a:solidFill>
                <a:latin typeface="Arial"/>
              </a:rPr>
              <a:t>미래 원자로 인허가 체계</a:t>
            </a:r>
            <a:endParaRPr b="0" lang="en-US" sz="3000" spc="-1" strike="noStrike">
              <a:solidFill>
                <a:srgbClr val="101260"/>
              </a:solidFill>
              <a:latin typeface="HY헤드라인M"/>
            </a:endParaRPr>
          </a:p>
        </p:txBody>
      </p:sp>
      <p:sp>
        <p:nvSpPr>
          <p:cNvPr id="141" name="AutoShape 22"/>
          <p:cNvSpPr/>
          <p:nvPr/>
        </p:nvSpPr>
        <p:spPr>
          <a:xfrm>
            <a:off x="415800" y="1052640"/>
            <a:ext cx="5977080" cy="5364000"/>
          </a:xfrm>
          <a:prstGeom prst="roundRect">
            <a:avLst>
              <a:gd name="adj" fmla="val 3833"/>
            </a:avLst>
          </a:prstGeom>
          <a:noFill/>
          <a:ln w="1908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10126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1260"/>
                </a:solidFill>
                <a:latin typeface="Arial"/>
              </a:rPr>
              <a:t> </a:t>
            </a:r>
            <a:r>
              <a:rPr b="1" lang="ko-KR" sz="2000" spc="-1" strike="noStrike">
                <a:solidFill>
                  <a:srgbClr val="101260"/>
                </a:solidFill>
                <a:latin typeface="Arial"/>
              </a:rPr>
              <a:t>사전 안전성 검토 도입 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미래형 원자로 안전성 체계적 검토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2" marL="1149480" indent="-2858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개발 단계 원자로의 안전성은 연구용 또는 상용로보다 더 면밀히 검토할 필요성 제기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현행 원자력 법규 개정 필요함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10126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01260"/>
                </a:solidFill>
                <a:latin typeface="Arial"/>
              </a:rPr>
              <a:t>특정설계 인가 제도 고려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원형로 또는 실증로의 설계완성도 일정 수준 이상 확보 노력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개발자의 설계 충실도와 규제자의 설계이해도 향상 만족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표준설계와의 설계완성도 차이 인정 문제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10126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01260"/>
                </a:solidFill>
                <a:latin typeface="Arial"/>
              </a:rPr>
              <a:t>노형별 규제기준 및 규제 지침  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미래형 원전 특성 반영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42" name="TextBox 9"/>
          <p:cNvSpPr/>
          <p:nvPr/>
        </p:nvSpPr>
        <p:spPr>
          <a:xfrm>
            <a:off x="6897600" y="4879800"/>
            <a:ext cx="25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Arial"/>
              </a:rPr>
              <a:t>원형로 또는 실증로의 특성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grpSp>
        <p:nvGrpSpPr>
          <p:cNvPr id="143" name="그룹 8"/>
          <p:cNvGrpSpPr/>
          <p:nvPr/>
        </p:nvGrpSpPr>
        <p:grpSpPr>
          <a:xfrm>
            <a:off x="6681960" y="2492280"/>
            <a:ext cx="3024000" cy="2135160"/>
            <a:chOff x="6681960" y="2492280"/>
            <a:chExt cx="3024000" cy="2135160"/>
          </a:xfrm>
        </p:grpSpPr>
        <p:sp>
          <p:nvSpPr>
            <p:cNvPr id="144" name="타원 4"/>
            <p:cNvSpPr/>
            <p:nvPr/>
          </p:nvSpPr>
          <p:spPr>
            <a:xfrm>
              <a:off x="6681960" y="2899440"/>
              <a:ext cx="1728000" cy="172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71440" indent="-271440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145" name="타원 10"/>
            <p:cNvSpPr/>
            <p:nvPr/>
          </p:nvSpPr>
          <p:spPr>
            <a:xfrm>
              <a:off x="7977960" y="2887200"/>
              <a:ext cx="1728000" cy="1728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71440" indent="-271440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146" name="TextBox 5"/>
            <p:cNvSpPr/>
            <p:nvPr/>
          </p:nvSpPr>
          <p:spPr>
            <a:xfrm>
              <a:off x="7279200" y="35395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</a:rPr>
                <a:t>발전용</a:t>
              </a:r>
              <a:endParaRPr b="1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147" name="TextBox 11"/>
            <p:cNvSpPr/>
            <p:nvPr/>
          </p:nvSpPr>
          <p:spPr>
            <a:xfrm>
              <a:off x="8588520" y="35395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</a:rPr>
                <a:t>연구용</a:t>
              </a:r>
              <a:endParaRPr b="1" lang="en-US" sz="18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148" name="TextBox 7"/>
            <p:cNvSpPr/>
            <p:nvPr/>
          </p:nvSpPr>
          <p:spPr>
            <a:xfrm>
              <a:off x="6910560" y="2499840"/>
              <a:ext cx="111636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000" spc="-1" strike="noStrike">
                  <a:solidFill>
                    <a:srgbClr val="000000"/>
                  </a:solidFill>
                  <a:latin typeface="HY헤드라인M"/>
                </a:rPr>
                <a:t>설계 특성</a:t>
              </a:r>
              <a:endParaRPr b="1" lang="en-US" sz="10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149" name="TextBox 13"/>
            <p:cNvSpPr/>
            <p:nvPr/>
          </p:nvSpPr>
          <p:spPr>
            <a:xfrm>
              <a:off x="8326800" y="2492280"/>
              <a:ext cx="111636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000" spc="-1" strike="noStrike">
                  <a:solidFill>
                    <a:srgbClr val="000000"/>
                  </a:solidFill>
                  <a:latin typeface="HY헤드라인M"/>
                </a:rPr>
                <a:t>사용 목적</a:t>
              </a:r>
              <a:endParaRPr b="1" lang="en-US" sz="10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0520" y="128520"/>
            <a:ext cx="9329760" cy="55584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01260"/>
                </a:solidFill>
                <a:latin typeface="Arial"/>
              </a:rPr>
              <a:t>PGSFR </a:t>
            </a:r>
            <a:r>
              <a:rPr b="1" lang="ko-KR" sz="3000" spc="-1" strike="noStrike">
                <a:solidFill>
                  <a:srgbClr val="101260"/>
                </a:solidFill>
                <a:latin typeface="Arial"/>
              </a:rPr>
              <a:t>인허가 절차</a:t>
            </a:r>
            <a:r>
              <a:rPr b="1" lang="en-US" sz="3000" spc="-1" strike="noStrike">
                <a:solidFill>
                  <a:srgbClr val="101260"/>
                </a:solidFill>
                <a:latin typeface="Arial"/>
              </a:rPr>
              <a:t>(</a:t>
            </a:r>
            <a:r>
              <a:rPr b="1" lang="ko-KR" sz="3000" spc="-1" strike="noStrike">
                <a:solidFill>
                  <a:srgbClr val="101260"/>
                </a:solidFill>
                <a:latin typeface="Arial"/>
              </a:rPr>
              <a:t>안</a:t>
            </a:r>
            <a:r>
              <a:rPr b="1" lang="en-US" sz="3000" spc="-1" strike="noStrike">
                <a:solidFill>
                  <a:srgbClr val="10126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101260"/>
              </a:solidFill>
              <a:latin typeface="HY헤드라인M"/>
            </a:endParaRPr>
          </a:p>
        </p:txBody>
      </p:sp>
      <p:sp>
        <p:nvSpPr>
          <p:cNvPr id="151" name="AutoShape 22"/>
          <p:cNvSpPr/>
          <p:nvPr/>
        </p:nvSpPr>
        <p:spPr>
          <a:xfrm>
            <a:off x="415800" y="1052640"/>
            <a:ext cx="4997520" cy="4140000"/>
          </a:xfrm>
          <a:prstGeom prst="roundRect">
            <a:avLst>
              <a:gd name="adj" fmla="val 3833"/>
            </a:avLst>
          </a:prstGeom>
          <a:noFill/>
          <a:ln w="1908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10126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1260"/>
                </a:solidFill>
                <a:latin typeface="Arial"/>
              </a:rPr>
              <a:t> </a:t>
            </a:r>
            <a:r>
              <a:rPr b="1" lang="ko-KR" sz="2000" spc="-1" strike="noStrike">
                <a:solidFill>
                  <a:srgbClr val="101260"/>
                </a:solidFill>
                <a:latin typeface="Arial"/>
              </a:rPr>
              <a:t>현행 인허가 절차 준수 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건설허가 및 운영허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(Option 1)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표준설계인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건설허가 및 운영허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(Option 2)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10126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01260"/>
                </a:solidFill>
                <a:latin typeface="Arial"/>
              </a:rPr>
              <a:t>미래원자로 인허가 절차  </a:t>
            </a:r>
            <a:r>
              <a:rPr b="1" lang="en-US" sz="2000" spc="-1" strike="noStrike">
                <a:solidFill>
                  <a:srgbClr val="101260"/>
                </a:solidFill>
                <a:latin typeface="Arial"/>
              </a:rPr>
              <a:t>(Option 3)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사전안전성 검토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특정설계 인가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헤드라인M"/>
              </a:rPr>
              <a:t>건설허가 및 운영허가</a:t>
            </a: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  <a:p>
            <a:pPr lvl="1" marL="625320" indent="-217440">
              <a:lnSpc>
                <a:spcPct val="100000"/>
              </a:lnSpc>
              <a:spcBef>
                <a:spcPts val="601"/>
              </a:spcBef>
              <a:buClr>
                <a:srgbClr val="3030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52" name="TextBox 20"/>
          <p:cNvSpPr/>
          <p:nvPr/>
        </p:nvSpPr>
        <p:spPr>
          <a:xfrm>
            <a:off x="7746840" y="4378320"/>
            <a:ext cx="192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* </a:t>
            </a: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Arial"/>
              </a:rPr>
              <a:t>자료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Arial"/>
              </a:rPr>
              <a:t>작성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Arial"/>
              </a:rPr>
              <a:t>권배혁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, 2014)</a:t>
            </a:r>
            <a:endParaRPr b="1" lang="en-US" sz="11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53" name="직사각형 10"/>
          <p:cNvSpPr/>
          <p:nvPr/>
        </p:nvSpPr>
        <p:spPr>
          <a:xfrm>
            <a:off x="5586480" y="1635120"/>
            <a:ext cx="4086000" cy="2736720"/>
          </a:xfrm>
          <a:prstGeom prst="rect">
            <a:avLst/>
          </a:prstGeom>
          <a:solidFill>
            <a:srgbClr val="cccccc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HY헤드라인M"/>
            </a:endParaRPr>
          </a:p>
        </p:txBody>
      </p:sp>
      <p:grpSp>
        <p:nvGrpSpPr>
          <p:cNvPr id="154" name="그룹 11"/>
          <p:cNvGrpSpPr/>
          <p:nvPr/>
        </p:nvGrpSpPr>
        <p:grpSpPr>
          <a:xfrm>
            <a:off x="5557680" y="1760400"/>
            <a:ext cx="4129200" cy="2519640"/>
            <a:chOff x="5557680" y="1760400"/>
            <a:chExt cx="4129200" cy="2519640"/>
          </a:xfrm>
        </p:grpSpPr>
        <p:grpSp>
          <p:nvGrpSpPr>
            <p:cNvPr id="155" name="그룹 12"/>
            <p:cNvGrpSpPr/>
            <p:nvPr/>
          </p:nvGrpSpPr>
          <p:grpSpPr>
            <a:xfrm>
              <a:off x="5557680" y="1760400"/>
              <a:ext cx="4129200" cy="2519640"/>
              <a:chOff x="5557680" y="1760400"/>
              <a:chExt cx="4129200" cy="2519640"/>
            </a:xfrm>
          </p:grpSpPr>
          <p:sp>
            <p:nvSpPr>
              <p:cNvPr id="156" name="직사각형 19"/>
              <p:cNvSpPr/>
              <p:nvPr/>
            </p:nvSpPr>
            <p:spPr>
              <a:xfrm>
                <a:off x="6013080" y="1760400"/>
                <a:ext cx="144360" cy="144360"/>
              </a:xfrm>
              <a:prstGeom prst="rect">
                <a:avLst/>
              </a:pr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  <p:cxnSp>
            <p:nvCxnSpPr>
              <p:cNvPr id="157" name="직선 화살표 연결선 21"/>
              <p:cNvCxnSpPr>
                <a:stCxn id="156" idx="3"/>
              </p:cNvCxnSpPr>
              <p:nvPr/>
            </p:nvCxnSpPr>
            <p:spPr>
              <a:xfrm>
                <a:off x="6158160" y="1831680"/>
                <a:ext cx="3241440" cy="1080"/>
              </a:xfrm>
              <a:prstGeom prst="straightConnector1">
                <a:avLst/>
              </a:prstGeom>
              <a:ln w="2232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58" name="직사각형 22"/>
              <p:cNvSpPr/>
              <p:nvPr/>
            </p:nvSpPr>
            <p:spPr>
              <a:xfrm>
                <a:off x="9399600" y="1760400"/>
                <a:ext cx="142560" cy="144360"/>
              </a:xfrm>
              <a:prstGeom prst="rect">
                <a:avLst/>
              </a:pr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  <p:sp>
            <p:nvSpPr>
              <p:cNvPr id="159" name="직선 연결선 23"/>
              <p:cNvSpPr/>
              <p:nvPr/>
            </p:nvSpPr>
            <p:spPr>
              <a:xfrm>
                <a:off x="7778520" y="1760400"/>
                <a:ext cx="0" cy="1436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  <p:sp>
            <p:nvSpPr>
              <p:cNvPr id="160" name="TextBox 24"/>
              <p:cNvSpPr/>
              <p:nvPr/>
            </p:nvSpPr>
            <p:spPr>
              <a:xfrm>
                <a:off x="7598520" y="1858680"/>
                <a:ext cx="3600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HY헤드라인M"/>
                  </a:rPr>
                  <a:t>CP</a:t>
                </a:r>
                <a:endParaRPr b="1" lang="en-US" sz="11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  <p:sp>
            <p:nvSpPr>
              <p:cNvPr id="161" name="TextBox 25"/>
              <p:cNvSpPr/>
              <p:nvPr/>
            </p:nvSpPr>
            <p:spPr>
              <a:xfrm>
                <a:off x="9326880" y="1858680"/>
                <a:ext cx="36000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HY헤드라인M"/>
                  </a:rPr>
                  <a:t>OL</a:t>
                </a:r>
                <a:endParaRPr b="1" lang="en-US" sz="11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  <p:cxnSp>
            <p:nvCxnSpPr>
              <p:cNvPr id="162" name="직선 화살표 연결선 26"/>
              <p:cNvCxnSpPr/>
              <p:nvPr/>
            </p:nvCxnSpPr>
            <p:spPr>
              <a:xfrm>
                <a:off x="6157800" y="2191680"/>
                <a:ext cx="1621080" cy="1080"/>
              </a:xfrm>
              <a:prstGeom prst="straightConnector1">
                <a:avLst/>
              </a:prstGeom>
              <a:ln w="2232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63" name="직선 연결선 27"/>
              <p:cNvSpPr/>
              <p:nvPr/>
            </p:nvSpPr>
            <p:spPr>
              <a:xfrm>
                <a:off x="7778520" y="2120040"/>
                <a:ext cx="0" cy="1440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  <p:cxnSp>
            <p:nvCxnSpPr>
              <p:cNvPr id="164" name="직선 화살표 연결선 28"/>
              <p:cNvCxnSpPr/>
              <p:nvPr/>
            </p:nvCxnSpPr>
            <p:spPr>
              <a:xfrm>
                <a:off x="7778160" y="2191680"/>
                <a:ext cx="1621080" cy="1080"/>
              </a:xfrm>
              <a:prstGeom prst="straightConnector1">
                <a:avLst/>
              </a:prstGeom>
              <a:ln w="2232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65" name="TextBox 29"/>
              <p:cNvSpPr/>
              <p:nvPr/>
            </p:nvSpPr>
            <p:spPr>
              <a:xfrm>
                <a:off x="6176880" y="2192040"/>
                <a:ext cx="10800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100" spc="-1" strike="noStrike">
                    <a:solidFill>
                      <a:srgbClr val="000000"/>
                    </a:solidFill>
                    <a:latin typeface="HY헤드라인M"/>
                  </a:rPr>
                  <a:t>① </a:t>
                </a:r>
                <a:r>
                  <a:rPr b="1" lang="ko-KR" sz="1100" spc="-1" strike="noStrike">
                    <a:solidFill>
                      <a:srgbClr val="000000"/>
                    </a:solidFill>
                    <a:latin typeface="HY헤드라인M"/>
                  </a:rPr>
                  <a:t>부지승인</a:t>
                </a:r>
                <a:endParaRPr b="1" lang="en-US" sz="11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  <p:sp>
            <p:nvSpPr>
              <p:cNvPr id="166" name="TextBox 30"/>
              <p:cNvSpPr/>
              <p:nvPr/>
            </p:nvSpPr>
            <p:spPr>
              <a:xfrm>
                <a:off x="7382520" y="2192040"/>
                <a:ext cx="7200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100" spc="-1" strike="noStrike">
                    <a:solidFill>
                      <a:srgbClr val="000000"/>
                    </a:solidFill>
                    <a:latin typeface="HY헤드라인M"/>
                  </a:rPr>
                  <a:t>② 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HY헤드라인M"/>
                  </a:rPr>
                  <a:t>PSAR</a:t>
                </a:r>
                <a:endParaRPr b="1" lang="en-US" sz="11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  <p:sp>
            <p:nvSpPr>
              <p:cNvPr id="167" name="TextBox 31"/>
              <p:cNvSpPr/>
              <p:nvPr/>
            </p:nvSpPr>
            <p:spPr>
              <a:xfrm>
                <a:off x="8966880" y="2192040"/>
                <a:ext cx="7200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100" spc="-1" strike="noStrike">
                    <a:solidFill>
                      <a:srgbClr val="000000"/>
                    </a:solidFill>
                    <a:latin typeface="HY헤드라인M"/>
                  </a:rPr>
                  <a:t>③ 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HY헤드라인M"/>
                  </a:rPr>
                  <a:t>FSAR</a:t>
                </a:r>
                <a:endParaRPr b="1" lang="en-US" sz="11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  <p:sp>
            <p:nvSpPr>
              <p:cNvPr id="168" name="TextBox 32"/>
              <p:cNvSpPr/>
              <p:nvPr/>
            </p:nvSpPr>
            <p:spPr>
              <a:xfrm>
                <a:off x="5565240" y="2048040"/>
                <a:ext cx="6768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HY헤드라인M"/>
                  </a:rPr>
                  <a:t>Option 1</a:t>
                </a:r>
                <a:endParaRPr b="1" lang="en-US" sz="10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  <p:sp>
            <p:nvSpPr>
              <p:cNvPr id="169" name="TextBox 33"/>
              <p:cNvSpPr/>
              <p:nvPr/>
            </p:nvSpPr>
            <p:spPr>
              <a:xfrm>
                <a:off x="5564520" y="2434680"/>
                <a:ext cx="6768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HY헤드라인M"/>
                  </a:rPr>
                  <a:t>Option 2</a:t>
                </a:r>
                <a:endParaRPr b="1" lang="en-US" sz="10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  <p:cxnSp>
            <p:nvCxnSpPr>
              <p:cNvPr id="170" name="직선 화살표 연결선 34"/>
              <p:cNvCxnSpPr/>
              <p:nvPr/>
            </p:nvCxnSpPr>
            <p:spPr>
              <a:xfrm>
                <a:off x="6157800" y="2578320"/>
                <a:ext cx="1621080" cy="1080"/>
              </a:xfrm>
              <a:prstGeom prst="straightConnector1">
                <a:avLst/>
              </a:prstGeom>
              <a:ln w="2232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71" name="직선 연결선 35"/>
              <p:cNvSpPr/>
              <p:nvPr/>
            </p:nvSpPr>
            <p:spPr>
              <a:xfrm>
                <a:off x="7778520" y="2506680"/>
                <a:ext cx="0" cy="1440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  <p:cxnSp>
            <p:nvCxnSpPr>
              <p:cNvPr id="172" name="직선 화살표 연결선 36"/>
              <p:cNvCxnSpPr/>
              <p:nvPr/>
            </p:nvCxnSpPr>
            <p:spPr>
              <a:xfrm>
                <a:off x="7778160" y="2578320"/>
                <a:ext cx="1621080" cy="1080"/>
              </a:xfrm>
              <a:prstGeom prst="straightConnector1">
                <a:avLst/>
              </a:prstGeom>
              <a:ln w="2232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73" name="TextBox 37"/>
              <p:cNvSpPr/>
              <p:nvPr/>
            </p:nvSpPr>
            <p:spPr>
              <a:xfrm>
                <a:off x="6176880" y="2578680"/>
                <a:ext cx="15123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100" spc="-1" strike="noStrike">
                    <a:solidFill>
                      <a:srgbClr val="000000"/>
                    </a:solidFill>
                    <a:latin typeface="HY헤드라인M"/>
                  </a:rPr>
                  <a:t>① </a:t>
                </a:r>
                <a:r>
                  <a:rPr b="1" lang="ko-KR" sz="1100" spc="-1" strike="noStrike">
                    <a:solidFill>
                      <a:srgbClr val="000000"/>
                    </a:solidFill>
                    <a:latin typeface="HY헤드라인M"/>
                  </a:rPr>
                  <a:t>표준설계인가</a:t>
                </a:r>
                <a:endParaRPr b="1" lang="en-US" sz="11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  <p:sp>
            <p:nvSpPr>
              <p:cNvPr id="174" name="TextBox 38"/>
              <p:cNvSpPr/>
              <p:nvPr/>
            </p:nvSpPr>
            <p:spPr>
              <a:xfrm>
                <a:off x="7382520" y="2578680"/>
                <a:ext cx="7200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100" spc="-1" strike="noStrike">
                    <a:solidFill>
                      <a:srgbClr val="000000"/>
                    </a:solidFill>
                    <a:latin typeface="HY헤드라인M"/>
                  </a:rPr>
                  <a:t>③ 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HY헤드라인M"/>
                  </a:rPr>
                  <a:t>PSAR</a:t>
                </a:r>
                <a:endParaRPr b="1" lang="en-US" sz="11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  <p:sp>
            <p:nvSpPr>
              <p:cNvPr id="175" name="TextBox 39"/>
              <p:cNvSpPr/>
              <p:nvPr/>
            </p:nvSpPr>
            <p:spPr>
              <a:xfrm>
                <a:off x="8966880" y="2578680"/>
                <a:ext cx="7200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100" spc="-1" strike="noStrike">
                    <a:solidFill>
                      <a:srgbClr val="000000"/>
                    </a:solidFill>
                    <a:latin typeface="HY헤드라인M"/>
                  </a:rPr>
                  <a:t>④ 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HY헤드라인M"/>
                  </a:rPr>
                  <a:t>FSAR</a:t>
                </a:r>
                <a:endParaRPr b="1" lang="en-US" sz="11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  <p:sp>
            <p:nvSpPr>
              <p:cNvPr id="176" name="TextBox 40"/>
              <p:cNvSpPr/>
              <p:nvPr/>
            </p:nvSpPr>
            <p:spPr>
              <a:xfrm>
                <a:off x="6825240" y="2794680"/>
                <a:ext cx="14040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100" spc="-1" strike="noStrike">
                    <a:solidFill>
                      <a:srgbClr val="000000"/>
                    </a:solidFill>
                    <a:latin typeface="HY헤드라인M"/>
                  </a:rPr>
                  <a:t>② </a:t>
                </a:r>
                <a:r>
                  <a:rPr b="1" lang="ko-KR" sz="1100" spc="-1" strike="noStrike">
                    <a:solidFill>
                      <a:srgbClr val="000000"/>
                    </a:solidFill>
                    <a:latin typeface="HY헤드라인M"/>
                  </a:rPr>
                  <a:t>부지승인 </a:t>
                </a:r>
                <a:endParaRPr b="1" lang="en-US" sz="11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  <p:sp>
            <p:nvSpPr>
              <p:cNvPr id="177" name="TextBox 41"/>
              <p:cNvSpPr/>
              <p:nvPr/>
            </p:nvSpPr>
            <p:spPr>
              <a:xfrm>
                <a:off x="5557680" y="3442680"/>
                <a:ext cx="6768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HY헤드라인M"/>
                  </a:rPr>
                  <a:t>Option 3</a:t>
                </a:r>
                <a:endParaRPr b="1" lang="en-US" sz="10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  <p:cxnSp>
            <p:nvCxnSpPr>
              <p:cNvPr id="178" name="직선 화살표 연결선 42"/>
              <p:cNvCxnSpPr/>
              <p:nvPr/>
            </p:nvCxnSpPr>
            <p:spPr>
              <a:xfrm>
                <a:off x="6157800" y="3586320"/>
                <a:ext cx="1621080" cy="1080"/>
              </a:xfrm>
              <a:prstGeom prst="straightConnector1">
                <a:avLst/>
              </a:prstGeom>
              <a:ln w="2232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79" name="직선 연결선 43"/>
              <p:cNvSpPr/>
              <p:nvPr/>
            </p:nvSpPr>
            <p:spPr>
              <a:xfrm>
                <a:off x="7778520" y="3514680"/>
                <a:ext cx="0" cy="1440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0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  <p:cxnSp>
            <p:nvCxnSpPr>
              <p:cNvPr id="180" name="직선 화살표 연결선 44"/>
              <p:cNvCxnSpPr/>
              <p:nvPr/>
            </p:nvCxnSpPr>
            <p:spPr>
              <a:xfrm>
                <a:off x="7778160" y="3586320"/>
                <a:ext cx="1621080" cy="1080"/>
              </a:xfrm>
              <a:prstGeom prst="straightConnector1">
                <a:avLst/>
              </a:prstGeom>
              <a:ln w="2232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81" name="TextBox 45"/>
              <p:cNvSpPr/>
              <p:nvPr/>
            </p:nvSpPr>
            <p:spPr>
              <a:xfrm>
                <a:off x="6176880" y="3586680"/>
                <a:ext cx="15123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100" spc="-1" strike="noStrike">
                    <a:solidFill>
                      <a:srgbClr val="000000"/>
                    </a:solidFill>
                    <a:latin typeface="HY헤드라인M"/>
                  </a:rPr>
                  <a:t>① </a:t>
                </a:r>
                <a:r>
                  <a:rPr b="1" lang="ko-KR" sz="1100" spc="-1" strike="noStrike">
                    <a:solidFill>
                      <a:srgbClr val="000000"/>
                    </a:solidFill>
                    <a:latin typeface="HY헤드라인M"/>
                  </a:rPr>
                  <a:t>사전안전성검토</a:t>
                </a:r>
                <a:endParaRPr b="1" lang="en-US" sz="11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  <p:sp>
            <p:nvSpPr>
              <p:cNvPr id="182" name="TextBox 46"/>
              <p:cNvSpPr/>
              <p:nvPr/>
            </p:nvSpPr>
            <p:spPr>
              <a:xfrm>
                <a:off x="7382520" y="3586680"/>
                <a:ext cx="7200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100" spc="-1" strike="noStrike">
                    <a:solidFill>
                      <a:srgbClr val="000000"/>
                    </a:solidFill>
                    <a:latin typeface="HY헤드라인M"/>
                  </a:rPr>
                  <a:t>④ 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HY헤드라인M"/>
                  </a:rPr>
                  <a:t>PSAR</a:t>
                </a:r>
                <a:endParaRPr b="1" lang="en-US" sz="11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  <p:sp>
            <p:nvSpPr>
              <p:cNvPr id="183" name="TextBox 47"/>
              <p:cNvSpPr/>
              <p:nvPr/>
            </p:nvSpPr>
            <p:spPr>
              <a:xfrm>
                <a:off x="8966880" y="3586680"/>
                <a:ext cx="7200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100" spc="-1" strike="noStrike">
                    <a:solidFill>
                      <a:srgbClr val="000000"/>
                    </a:solidFill>
                    <a:latin typeface="HY헤드라인M"/>
                  </a:rPr>
                  <a:t>⑤ 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HY헤드라인M"/>
                  </a:rPr>
                  <a:t>FSAR</a:t>
                </a:r>
                <a:endParaRPr b="1" lang="en-US" sz="11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  <p:sp>
            <p:nvSpPr>
              <p:cNvPr id="184" name="TextBox 48"/>
              <p:cNvSpPr/>
              <p:nvPr/>
            </p:nvSpPr>
            <p:spPr>
              <a:xfrm>
                <a:off x="6501240" y="3802680"/>
                <a:ext cx="14040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100" spc="-1" strike="noStrike">
                    <a:solidFill>
                      <a:srgbClr val="000000"/>
                    </a:solidFill>
                    <a:latin typeface="HY헤드라인M"/>
                  </a:rPr>
                  <a:t>② </a:t>
                </a:r>
                <a:r>
                  <a:rPr b="1" lang="ko-KR" sz="1100" spc="-1" strike="noStrike">
                    <a:solidFill>
                      <a:srgbClr val="000000"/>
                    </a:solidFill>
                    <a:latin typeface="HY헤드라인M"/>
                  </a:rPr>
                  <a:t>특정설계인가 </a:t>
                </a:r>
                <a:endParaRPr b="1" lang="en-US" sz="11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  <p:sp>
            <p:nvSpPr>
              <p:cNvPr id="185" name="TextBox 49"/>
              <p:cNvSpPr/>
              <p:nvPr/>
            </p:nvSpPr>
            <p:spPr>
              <a:xfrm>
                <a:off x="6825240" y="4018680"/>
                <a:ext cx="14040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100" spc="-1" strike="noStrike">
                    <a:solidFill>
                      <a:srgbClr val="000000"/>
                    </a:solidFill>
                    <a:latin typeface="HY헤드라인M"/>
                  </a:rPr>
                  <a:t>③ </a:t>
                </a:r>
                <a:r>
                  <a:rPr b="1" lang="ko-KR" sz="1100" spc="-1" strike="noStrike">
                    <a:solidFill>
                      <a:srgbClr val="000000"/>
                    </a:solidFill>
                    <a:latin typeface="HY헤드라인M"/>
                  </a:rPr>
                  <a:t>부지승인 </a:t>
                </a:r>
                <a:endParaRPr b="1" lang="en-US" sz="1100" spc="-1" strike="noStrike">
                  <a:solidFill>
                    <a:srgbClr val="000000"/>
                  </a:solidFill>
                  <a:latin typeface="HY헤드라인M"/>
                </a:endParaRPr>
              </a:p>
            </p:txBody>
          </p:sp>
        </p:grpSp>
        <p:sp>
          <p:nvSpPr>
            <p:cNvPr id="186" name="직선 연결선 13"/>
            <p:cNvSpPr/>
            <p:nvPr/>
          </p:nvSpPr>
          <p:spPr>
            <a:xfrm>
              <a:off x="7382520" y="2106360"/>
              <a:ext cx="0" cy="143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187" name="직선 연결선 14"/>
            <p:cNvSpPr/>
            <p:nvPr/>
          </p:nvSpPr>
          <p:spPr>
            <a:xfrm>
              <a:off x="7382520" y="2514960"/>
              <a:ext cx="0" cy="144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188" name="직선 연결선 15"/>
            <p:cNvSpPr/>
            <p:nvPr/>
          </p:nvSpPr>
          <p:spPr>
            <a:xfrm>
              <a:off x="7392240" y="3501360"/>
              <a:ext cx="0" cy="144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189" name="직선 연결선 16"/>
            <p:cNvSpPr/>
            <p:nvPr/>
          </p:nvSpPr>
          <p:spPr>
            <a:xfrm>
              <a:off x="6990840" y="2506680"/>
              <a:ext cx="0" cy="144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190" name="직선 연결선 17"/>
            <p:cNvSpPr/>
            <p:nvPr/>
          </p:nvSpPr>
          <p:spPr>
            <a:xfrm>
              <a:off x="7033680" y="3514680"/>
              <a:ext cx="0" cy="143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  <p:sp>
          <p:nvSpPr>
            <p:cNvPr id="191" name="직선 연결선 18"/>
            <p:cNvSpPr/>
            <p:nvPr/>
          </p:nvSpPr>
          <p:spPr>
            <a:xfrm>
              <a:off x="6702120" y="3506400"/>
              <a:ext cx="0" cy="1436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HY헤드라인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90520" y="128520"/>
            <a:ext cx="9329760" cy="55584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01260"/>
                </a:solidFill>
                <a:latin typeface="Arial"/>
              </a:rPr>
              <a:t>SFR vs. PWR</a:t>
            </a:r>
            <a:r>
              <a:rPr b="1" lang="ko-KR" sz="3000" spc="-1" strike="noStrike">
                <a:solidFill>
                  <a:srgbClr val="101260"/>
                </a:solidFill>
                <a:latin typeface="Arial"/>
              </a:rPr>
              <a:t> </a:t>
            </a:r>
            <a:r>
              <a:rPr b="1" lang="ko-KR" sz="3000" spc="-1" strike="noStrike">
                <a:solidFill>
                  <a:srgbClr val="101260"/>
                </a:solidFill>
                <a:latin typeface="Arial"/>
              </a:rPr>
              <a:t>특성 주요 차이점</a:t>
            </a:r>
            <a:endParaRPr b="0" lang="en-US" sz="3000" spc="-1" strike="noStrike">
              <a:solidFill>
                <a:srgbClr val="101260"/>
              </a:solidFill>
              <a:latin typeface="HY헤드라인M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1920960" y="2673360"/>
            <a:ext cx="6068880" cy="358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4" name=""/>
          <p:cNvGraphicFramePr/>
          <p:nvPr/>
        </p:nvGraphicFramePr>
        <p:xfrm>
          <a:off x="1749600" y="1015920"/>
          <a:ext cx="6603840" cy="1484280"/>
        </p:xfrm>
        <a:graphic>
          <a:graphicData uri="http://schemas.openxmlformats.org/drawingml/2006/table">
            <a:tbl>
              <a:tblPr/>
              <a:tblGrid>
                <a:gridCol w="2201760"/>
                <a:gridCol w="2200320"/>
                <a:gridCol w="220176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특성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경수로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PGSF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RCS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온도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(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 Narrow"/>
                        </a:rPr>
                        <a:t>o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295~328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390~54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RCS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압력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(atm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~15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&lt; 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RCS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형태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Loop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Poo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90520" y="128520"/>
            <a:ext cx="9329760" cy="555840"/>
          </a:xfrm>
          <a:prstGeom prst="rect">
            <a:avLst/>
          </a:prstGeom>
          <a:noFill/>
          <a:ln w="0">
            <a:noFill/>
          </a:ln>
        </p:spPr>
        <p:txBody>
          <a:bodyPr lIns="108000" rIns="3600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01260"/>
                </a:solidFill>
                <a:latin typeface="Arial"/>
              </a:rPr>
              <a:t>SFR ATWS </a:t>
            </a:r>
            <a:r>
              <a:rPr b="1" lang="ko-KR" sz="3000" spc="-1" strike="noStrike">
                <a:solidFill>
                  <a:srgbClr val="101260"/>
                </a:solidFill>
                <a:latin typeface="Arial"/>
              </a:rPr>
              <a:t>거동 </a:t>
            </a:r>
            <a:endParaRPr b="0" lang="en-US" sz="3000" spc="-1" strike="noStrike">
              <a:solidFill>
                <a:srgbClr val="101260"/>
              </a:solidFill>
              <a:latin typeface="HY헤드라인M"/>
            </a:endParaRPr>
          </a:p>
        </p:txBody>
      </p:sp>
      <p:sp>
        <p:nvSpPr>
          <p:cNvPr id="196" name="TextBox 3"/>
          <p:cNvSpPr/>
          <p:nvPr/>
        </p:nvSpPr>
        <p:spPr>
          <a:xfrm>
            <a:off x="5097600" y="6200640"/>
            <a:ext cx="4140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Arial"/>
              </a:rPr>
              <a:t>출처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: Risk-informed balancing of safety, non-proliferation, and economics for the SFR, G.E. Apostolakis, ISU, 2011</a:t>
            </a:r>
            <a:endParaRPr b="1" lang="en-US" sz="11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0" y="0"/>
            <a:ext cx="12449160" cy="64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10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198" name="_x276085168" descr="EMB00000bd03f7f"/>
          <p:cNvPicPr/>
          <p:nvPr/>
        </p:nvPicPr>
        <p:blipFill>
          <a:blip r:embed="rId1"/>
          <a:stretch/>
        </p:blipFill>
        <p:spPr>
          <a:xfrm>
            <a:off x="531720" y="1052640"/>
            <a:ext cx="8704440" cy="5151240"/>
          </a:xfrm>
          <a:prstGeom prst="rect">
            <a:avLst/>
          </a:prstGeom>
          <a:ln w="0">
            <a:noFill/>
          </a:ln>
        </p:spPr>
      </p:pic>
      <p:sp>
        <p:nvSpPr>
          <p:cNvPr id="199" name="타원 1"/>
          <p:cNvSpPr/>
          <p:nvPr/>
        </p:nvSpPr>
        <p:spPr>
          <a:xfrm>
            <a:off x="1568520" y="4400640"/>
            <a:ext cx="1873080" cy="1368360"/>
          </a:xfrm>
          <a:prstGeom prst="ellipse">
            <a:avLst/>
          </a:prstGeom>
          <a:noFill/>
          <a:ln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6T00:56:56Z</dcterms:created>
  <dc:creator/>
  <dc:description/>
  <dc:language>en-US</dc:language>
  <cp:lastModifiedBy>ksahn</cp:lastModifiedBy>
  <cp:lastPrinted>2015-05-01T02:18:44Z</cp:lastPrinted>
  <dcterms:modified xsi:type="dcterms:W3CDTF">2015-10-22T00:28:42Z</dcterms:modified>
  <cp:revision>2910</cp:revision>
  <dc:subject/>
  <dc:title>슬라이드 1</dc:title>
</cp:coreProperties>
</file>